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1.wav" ContentType="audio/x-wav"/>
  <Override PartName="/ppt/media/thinktheme.wav" ContentType="audio/x-wav"/>
  <Override PartName="/ppt/media/applause.wav" ContentType="audio/x-wav"/>
  <Override PartName="/ppt/media/boardfill.wav" ContentType="audio/x-wav"/>
  <Override PartName="/ppt/media/WHOOSH.WAV" ContentType="audio/x-wav"/>
  <Override PartName="/ppt/media/doh(1).wav" ContentType="audio/x-wav"/>
  <Override PartName="/ppt/media/image1.jpeg" ContentType="image/jpeg"/>
  <Override PartName="/ppt/media/dailydoubl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155448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79400" y="685440"/>
            <a:ext cx="5299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45CA-C153-41E5-965D-185704A8A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B4A8-4030-40D3-BAD0-75F7599F2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E967-8947-46F2-ACDD-1010774F0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0C09-4DF5-43D7-B254-866BF202A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1192-3623-4BD2-8AF3-EF8489232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0B27-7E8F-48F5-94F5-6D48AC72A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1C47-9477-4480-9A1C-700ADAF4B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1DE1-EF6C-4A3D-BC66-AB14E8169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311F-BDDD-4348-AB91-FA60F465D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E37F-98D7-4187-9BF6-DC82A2B80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83EF-E49D-4476-9B3C-22C91071E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5868-B751-4BAC-B1E8-49C8DCF79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522B-9A45-489B-A869-C65011EFF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2BB1-B02E-4FD8-B975-6BBC01F7F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5EB7-41D4-441E-885C-2B1C751F4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C773-ADAB-48CA-90E0-06626E39F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2913-AAC3-45B0-A57A-CD5C695ED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521E-5248-4F71-A46F-29B53D8F8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CABF-8995-458F-89FD-C246BCB85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5DC9-3FE8-4348-A441-0BEBD068A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A318-59A7-412C-86EE-44FBDE38F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F2DF-9627-4050-A980-C9A4B8842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4648-4A71-4FF9-B724-0F06F4630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4CEF-A9D4-4E64-A751-1DE0E59BC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C97F-DB46-4EFF-A38E-66860EB9F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68E4-C2F0-4245-AC69-C4E633E4F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2347-7CB8-4369-9C4B-332F816DB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59AB-8025-49C0-ADA3-27984AD5A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0C9F-85D3-4AB8-A763-387E213AD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D074-5068-4195-A07C-DA0C51011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ACF3-C2ED-4ADD-ABAE-616058559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116B-5987-4C32-9664-BE89668DD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B6D2-FCF1-4A77-9762-BAE732F28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4216-B04B-4B36-B2E8-768F43540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CE8A-01B2-4D5C-8B32-F3FFA07CC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42B9-2701-4396-9064-7E5FDBE63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A879-0177-4318-A7CB-FDB078CA9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E50A-80F5-4898-B4A5-0B583A0CF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724B-CFBD-458C-9AB9-8D55D5B18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CE64-D886-40A0-B8BB-982A519B5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9DCA-C619-43C4-8579-90EEED9BE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30AD-5FDB-4B62-A5E4-F5418162C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0040-071D-484F-92B0-36BE94649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2FAB-AFFA-40EB-AB6E-493035AE0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A1BB-FCA3-4A47-A1F6-C1B022CF8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F5B4-5243-4C91-99AE-F43BEFA17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F16A-20E3-4B21-BBC9-0AEC588FD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D401-9A88-4709-94C1-3C047FD17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2FB1-1B88-4A1F-ABDB-8672FC19A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BAE1-F24E-4616-86D4-F41E9E8F9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E717-D8F7-4296-B285-043C86E6B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323F-5072-4D5E-8CB5-C94B774E4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1544-0A1A-47DA-9FFD-8967A292D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005E-F7AD-4E69-A0FE-34F5644D0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2518-CCB5-4E89-B347-E5EAE1277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294A-B8CA-48C1-9EC5-999A735CF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A5D9-F244-45AA-A7F7-4608583CF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584C-3316-4E17-8D7F-7AFD6533C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AEBC-9008-4C4E-8638-56D39CF26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47C0-D4D7-4B14-B766-C4726CF97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FFE5-7C57-4A5D-B542-1966BA011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A3B0-CC16-49BF-8B6C-F421AB703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E4FC-239C-46BD-BB05-5C1AA87CE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DC5B-8A5D-429A-ABD8-A54F3035D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07D1-8EB3-4FE5-AF81-56CE84617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EE9C-7063-4A9D-8F29-C9ABB225A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D21B-2343-47B6-B688-5EC259F1B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B6D0-CCB8-4AD0-B6FA-525243B36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6FFC-4AE6-4565-9F16-6B15831B4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A152-FCD1-4DF2-9243-3E7D4B57C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546B-94D7-4293-9754-3D6178421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4A67-ED6F-4973-92E8-0C23BFBFC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6EF4-3E3C-4628-86D5-1CE2AF804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BA14-9027-4FCF-A039-F3EFBF6E4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1A04-8055-4066-866C-D4E1796DE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6A8-4689-4185-B00A-F5464AD4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FCC-BA6C-424B-AE41-B73B4310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38E-58A6-401B-B45E-1C8EF2D2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28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0124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6532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28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0124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A58-D91A-43CA-8CCF-800C0C69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CDB-4E75-4CEB-83C5-2F10B7B3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D0C-8CA7-4E36-9157-9571C395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860-A9E1-497F-92BB-7B60D021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1D5-66DC-4815-A698-F424C59B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5320" y="893880"/>
            <a:ext cx="1321416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B72-C281-4B3E-8100-C9BEB4AC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BBE-FD55-43AD-A8EC-604B5D4A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EB61-62D8-419E-9CFF-8BEC33ED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A31-D065-4BF5-9C49-B2CC6D62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53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11800" y="9164160"/>
            <a:ext cx="492120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409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fld id="{03248483-75C6-41CE-974A-5CC824D4ABC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1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audio" Target="../media/dailydoubl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54.xml"/><Relationship Id="rId3" Type="http://schemas.openxmlformats.org/officeDocument/2006/relationships/slide" Target="slide49.xml"/><Relationship Id="rId4" Type="http://schemas.openxmlformats.org/officeDocument/2006/relationships/slide" Target="slide44.xml"/><Relationship Id="rId5" Type="http://schemas.openxmlformats.org/officeDocument/2006/relationships/slide" Target="slide59.xml"/><Relationship Id="rId6" Type="http://schemas.openxmlformats.org/officeDocument/2006/relationships/slide" Target="slide64.xml"/><Relationship Id="rId7" Type="http://schemas.openxmlformats.org/officeDocument/2006/relationships/slide" Target="slide40.xml"/><Relationship Id="rId8" Type="http://schemas.openxmlformats.org/officeDocument/2006/relationships/slide" Target="slide65.xml"/><Relationship Id="rId9" Type="http://schemas.openxmlformats.org/officeDocument/2006/relationships/slide" Target="slide60.xml"/><Relationship Id="rId10" Type="http://schemas.openxmlformats.org/officeDocument/2006/relationships/slide" Target="slide55.xml"/><Relationship Id="rId11" Type="http://schemas.openxmlformats.org/officeDocument/2006/relationships/slide" Target="slide50.xml"/><Relationship Id="rId12" Type="http://schemas.openxmlformats.org/officeDocument/2006/relationships/slide" Target="slide45.xml"/><Relationship Id="rId13" Type="http://schemas.openxmlformats.org/officeDocument/2006/relationships/slide" Target="slide41.xml"/><Relationship Id="rId14" Type="http://schemas.openxmlformats.org/officeDocument/2006/relationships/slide" Target="slide46.xml"/><Relationship Id="rId15" Type="http://schemas.openxmlformats.org/officeDocument/2006/relationships/slide" Target="slide51.xml"/><Relationship Id="rId16" Type="http://schemas.openxmlformats.org/officeDocument/2006/relationships/slide" Target="slide69.xml"/><Relationship Id="rId17" Type="http://schemas.openxmlformats.org/officeDocument/2006/relationships/slide" Target="slide61.xml"/><Relationship Id="rId18" Type="http://schemas.openxmlformats.org/officeDocument/2006/relationships/slide" Target="slide66.xml"/><Relationship Id="rId19" Type="http://schemas.openxmlformats.org/officeDocument/2006/relationships/slide" Target="slide52.xml"/><Relationship Id="rId20" Type="http://schemas.openxmlformats.org/officeDocument/2006/relationships/slide" Target="slide70.xml"/><Relationship Id="rId21" Type="http://schemas.openxmlformats.org/officeDocument/2006/relationships/slide" Target="slide47.xml"/><Relationship Id="rId22" Type="http://schemas.openxmlformats.org/officeDocument/2006/relationships/slide" Target="slide57.xml"/><Relationship Id="rId23" Type="http://schemas.openxmlformats.org/officeDocument/2006/relationships/slide" Target="slide62.xml"/><Relationship Id="rId24" Type="http://schemas.openxmlformats.org/officeDocument/2006/relationships/slide" Target="slide67.xml"/><Relationship Id="rId25" Type="http://schemas.openxmlformats.org/officeDocument/2006/relationships/slide" Target="slide43.xml"/><Relationship Id="rId26" Type="http://schemas.openxmlformats.org/officeDocument/2006/relationships/slide" Target="slide63.xml"/><Relationship Id="rId27" Type="http://schemas.openxmlformats.org/officeDocument/2006/relationships/slide" Target="slide48.xml"/><Relationship Id="rId28" Type="http://schemas.openxmlformats.org/officeDocument/2006/relationships/slide" Target="slide53.xml"/><Relationship Id="rId29" Type="http://schemas.openxmlformats.org/officeDocument/2006/relationships/slide" Target="slide58.xml"/><Relationship Id="rId30" Type="http://schemas.openxmlformats.org/officeDocument/2006/relationships/slide" Target="slide68.xml"/><Relationship Id="rId31" Type="http://schemas.openxmlformats.org/officeDocument/2006/relationships/slide" Target="slide71.xml"/><Relationship Id="rId32" Type="http://schemas.openxmlformats.org/officeDocument/2006/relationships/audio" Target="../media/WHOOSH.WAV"/><Relationship Id="rId33" Type="http://schemas.openxmlformats.org/officeDocument/2006/relationships/audio" Target="../media/WHOOSH.WAV"/><Relationship Id="rId34" Type="http://schemas.openxmlformats.org/officeDocument/2006/relationships/audio" Target="../media/WHOOSH.WAV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audio" Target="../media/doh(1)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2.xml"/><Relationship Id="rId3" Type="http://schemas.openxmlformats.org/officeDocument/2006/relationships/slide" Target="slide16.xml"/><Relationship Id="rId4" Type="http://schemas.openxmlformats.org/officeDocument/2006/relationships/slide" Target="slide11.xml"/><Relationship Id="rId5" Type="http://schemas.openxmlformats.org/officeDocument/2006/relationships/slide" Target="slide27.xml"/><Relationship Id="rId6" Type="http://schemas.openxmlformats.org/officeDocument/2006/relationships/slide" Target="slide32.xml"/><Relationship Id="rId7" Type="http://schemas.openxmlformats.org/officeDocument/2006/relationships/slide" Target="slide7.xml"/><Relationship Id="rId8" Type="http://schemas.openxmlformats.org/officeDocument/2006/relationships/slide" Target="slide33.xml"/><Relationship Id="rId9" Type="http://schemas.openxmlformats.org/officeDocument/2006/relationships/slide" Target="slide28.xml"/><Relationship Id="rId10" Type="http://schemas.openxmlformats.org/officeDocument/2006/relationships/slide" Target="slide23.xml"/><Relationship Id="rId11" Type="http://schemas.openxmlformats.org/officeDocument/2006/relationships/slide" Target="slide17.xml"/><Relationship Id="rId12" Type="http://schemas.openxmlformats.org/officeDocument/2006/relationships/slide" Target="slide12.xml"/><Relationship Id="rId13" Type="http://schemas.openxmlformats.org/officeDocument/2006/relationships/slide" Target="slide8.xml"/><Relationship Id="rId14" Type="http://schemas.openxmlformats.org/officeDocument/2006/relationships/slide" Target="slide13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4.xml"/><Relationship Id="rId18" Type="http://schemas.openxmlformats.org/officeDocument/2006/relationships/slide" Target="slide29.xml"/><Relationship Id="rId19" Type="http://schemas.openxmlformats.org/officeDocument/2006/relationships/slide" Target="slide34.xml"/><Relationship Id="rId20" Type="http://schemas.openxmlformats.org/officeDocument/2006/relationships/slide" Target="slide9.xml"/><Relationship Id="rId21" Type="http://schemas.openxmlformats.org/officeDocument/2006/relationships/slide" Target="slide14.xml"/><Relationship Id="rId22" Type="http://schemas.openxmlformats.org/officeDocument/2006/relationships/slide" Target="slide25.xml"/><Relationship Id="rId23" Type="http://schemas.openxmlformats.org/officeDocument/2006/relationships/slide" Target="slide30.xml"/><Relationship Id="rId24" Type="http://schemas.openxmlformats.org/officeDocument/2006/relationships/slide" Target="slide35.xml"/><Relationship Id="rId25" Type="http://schemas.openxmlformats.org/officeDocument/2006/relationships/slide" Target="slide10.xml"/><Relationship Id="rId26" Type="http://schemas.openxmlformats.org/officeDocument/2006/relationships/slide" Target="slide31.xml"/><Relationship Id="rId27" Type="http://schemas.openxmlformats.org/officeDocument/2006/relationships/slide" Target="slide15.xml"/><Relationship Id="rId28" Type="http://schemas.openxmlformats.org/officeDocument/2006/relationships/slide" Target="slide20.xml"/><Relationship Id="rId29" Type="http://schemas.openxmlformats.org/officeDocument/2006/relationships/slide" Target="slide20.xml"/><Relationship Id="rId30" Type="http://schemas.openxmlformats.org/officeDocument/2006/relationships/slide" Target="slide26.xml"/><Relationship Id="rId31" Type="http://schemas.openxmlformats.org/officeDocument/2006/relationships/slide" Target="slide36.xml"/><Relationship Id="rId32" Type="http://schemas.openxmlformats.org/officeDocument/2006/relationships/slide" Target="slide37.xml"/><Relationship Id="rId33" Type="http://schemas.openxmlformats.org/officeDocument/2006/relationships/slide" Target="slide19.xml"/><Relationship Id="rId34" Type="http://schemas.openxmlformats.org/officeDocument/2006/relationships/audio" Target="../media/boardfill.wav"/><Relationship Id="rId35" Type="http://schemas.openxmlformats.org/officeDocument/2006/relationships/audio" Target="../media/WHOOSH.WAV"/><Relationship Id="rId36" Type="http://schemas.openxmlformats.org/officeDocument/2006/relationships/audio" Target="../media/WHOOSH.WAV"/><Relationship Id="rId37" Type="http://schemas.openxmlformats.org/officeDocument/2006/relationships/audio" Target="../media/WHOOSH.WAV"/><Relationship Id="rId38" Type="http://schemas.openxmlformats.org/officeDocument/2006/relationships/audio" Target="../media/WHOOSH.WAV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doh(1)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thinkthe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2133360"/>
            <a:ext cx="10667880" cy="2057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1500"/>
            </a:br>
            <a:br>
              <a:rPr sz="11500"/>
            </a:br>
            <a:r>
              <a:rPr b="0" lang="en-US" sz="11500" spc="-1" strike="noStrike">
                <a:solidFill>
                  <a:srgbClr val="ffffff"/>
                </a:solidFill>
                <a:latin typeface="Impact"/>
              </a:rPr>
              <a:t>Jeopardy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onding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y do atoms bo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o obtain a stable electron configur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>
            <a:hlinkClick r:id="rId1" action="ppaction://hlinksldjump"/>
          </p:cNvPr>
          <p:cNvSpPr/>
          <p:nvPr/>
        </p:nvSpPr>
        <p:spPr>
          <a:xfrm>
            <a:off x="6553080" y="777240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19" h="21600">
                <a:moveTo>
                  <a:pt x="142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19" h="21600">
                <a:moveTo>
                  <a:pt x="15315" y="14281"/>
                </a:moveTo>
                <a:lnTo>
                  <a:pt x="15315" y="12323"/>
                </a:lnTo>
                <a:cubicBezTo>
                  <a:pt x="15315" y="11496"/>
                  <a:pt x="15646" y="10800"/>
                  <a:pt x="16246" y="10800"/>
                </a:cubicBezTo>
                <a:cubicBezTo>
                  <a:pt x="17378" y="10800"/>
                  <a:pt x="18274" y="9434"/>
                  <a:pt x="18274" y="7849"/>
                </a:cubicBezTo>
                <a:cubicBezTo>
                  <a:pt x="18274" y="5534"/>
                  <a:pt x="16420" y="3794"/>
                  <a:pt x="14209" y="3794"/>
                </a:cubicBezTo>
                <a:cubicBezTo>
                  <a:pt x="11999" y="3794"/>
                  <a:pt x="10328" y="5534"/>
                  <a:pt x="10328" y="7849"/>
                </a:cubicBezTo>
                <a:lnTo>
                  <a:pt x="12181" y="7849"/>
                </a:lnTo>
                <a:cubicBezTo>
                  <a:pt x="12181" y="6709"/>
                  <a:pt x="13104" y="5821"/>
                  <a:pt x="14209" y="5821"/>
                </a:cubicBezTo>
                <a:cubicBezTo>
                  <a:pt x="15315" y="5821"/>
                  <a:pt x="16246" y="6709"/>
                  <a:pt x="16246" y="7849"/>
                </a:cubicBezTo>
                <a:cubicBezTo>
                  <a:pt x="16246" y="8589"/>
                  <a:pt x="15776" y="9320"/>
                  <a:pt x="15315" y="9320"/>
                </a:cubicBezTo>
                <a:cubicBezTo>
                  <a:pt x="14209" y="9320"/>
                  <a:pt x="13104" y="10800"/>
                  <a:pt x="13104" y="12323"/>
                </a:cubicBezTo>
                <a:lnTo>
                  <a:pt x="1310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Ions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Over 80 percent of the atoms on the periodic table form what type of 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>
            <a:hlinkClick r:id="rId1" action="ppaction://hlinksldjump"/>
          </p:cNvPr>
          <p:cNvSpPr/>
          <p:nvPr/>
        </p:nvSpPr>
        <p:spPr>
          <a:xfrm>
            <a:off x="12268080" y="7467480"/>
            <a:ext cx="1752840" cy="1524240"/>
          </a:xfrm>
          <a:custGeom>
            <a:avLst/>
            <a:gdLst>
              <a:gd name="textAreaLeft" fmla="*/ 98640 w 1752840"/>
              <a:gd name="textAreaRight" fmla="*/ 1654200 w 175284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1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5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19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1" y="7849"/>
                </a:lnTo>
                <a:cubicBezTo>
                  <a:pt x="10391" y="6709"/>
                  <a:pt x="11314" y="5821"/>
                  <a:pt x="12419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19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Ions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132145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chemical family always forms an ion with a 2+ charg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lkaline earth met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Ions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chemical family always forms an ion with a 1- charg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A  Haloge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6781680" y="7315200"/>
            <a:ext cx="1752840" cy="1676520"/>
          </a:xfrm>
          <a:custGeom>
            <a:avLst/>
            <a:gdLst>
              <a:gd name="textAreaLeft" fmla="*/ 108360 w 1752840"/>
              <a:gd name="textAreaRight" fmla="*/ 1644480 w 17528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2583" h="21600">
                <a:moveTo>
                  <a:pt x="0" y="0"/>
                </a:moveTo>
                <a:lnTo>
                  <a:pt x="22583" y="0"/>
                </a:lnTo>
                <a:lnTo>
                  <a:pt x="22583" y="21600"/>
                </a:lnTo>
                <a:lnTo>
                  <a:pt x="0" y="21600"/>
                </a:lnTo>
                <a:close/>
              </a:path>
              <a:path fill="lightenLess" w="22583" h="21600">
                <a:moveTo>
                  <a:pt x="0" y="0"/>
                </a:moveTo>
                <a:lnTo>
                  <a:pt x="22583" y="0"/>
                </a:lnTo>
                <a:lnTo>
                  <a:pt x="21183" y="1400"/>
                </a:lnTo>
                <a:lnTo>
                  <a:pt x="1400" y="1400"/>
                </a:lnTo>
                <a:close/>
              </a:path>
              <a:path fill="darken" w="22583" h="21600">
                <a:moveTo>
                  <a:pt x="22583" y="0"/>
                </a:moveTo>
                <a:lnTo>
                  <a:pt x="22583" y="21600"/>
                </a:lnTo>
                <a:lnTo>
                  <a:pt x="21183" y="20200"/>
                </a:lnTo>
                <a:lnTo>
                  <a:pt x="21183" y="1400"/>
                </a:lnTo>
                <a:close/>
              </a:path>
              <a:path fill="darkenLess" w="22583" h="21600">
                <a:moveTo>
                  <a:pt x="22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" y="20200"/>
                </a:lnTo>
                <a:close/>
              </a:path>
              <a:path fill="lighten" w="22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3" h="21600">
                <a:moveTo>
                  <a:pt x="112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583" h="21600">
                <a:moveTo>
                  <a:pt x="12397" y="14281"/>
                </a:moveTo>
                <a:lnTo>
                  <a:pt x="12397" y="12323"/>
                </a:lnTo>
                <a:cubicBezTo>
                  <a:pt x="12397" y="11496"/>
                  <a:pt x="12728" y="10800"/>
                  <a:pt x="13328" y="10800"/>
                </a:cubicBezTo>
                <a:cubicBezTo>
                  <a:pt x="14460" y="10800"/>
                  <a:pt x="15356" y="9434"/>
                  <a:pt x="15356" y="7849"/>
                </a:cubicBezTo>
                <a:cubicBezTo>
                  <a:pt x="15356" y="5534"/>
                  <a:pt x="13502" y="3794"/>
                  <a:pt x="11292" y="3794"/>
                </a:cubicBezTo>
                <a:cubicBezTo>
                  <a:pt x="9081" y="3794"/>
                  <a:pt x="7410" y="5534"/>
                  <a:pt x="7410" y="7849"/>
                </a:cubicBezTo>
                <a:lnTo>
                  <a:pt x="9264" y="7849"/>
                </a:lnTo>
                <a:cubicBezTo>
                  <a:pt x="9264" y="6709"/>
                  <a:pt x="10186" y="5821"/>
                  <a:pt x="11292" y="5821"/>
                </a:cubicBezTo>
                <a:cubicBezTo>
                  <a:pt x="12397" y="5821"/>
                  <a:pt x="13328" y="6709"/>
                  <a:pt x="13328" y="7849"/>
                </a:cubicBezTo>
                <a:cubicBezTo>
                  <a:pt x="13328" y="8589"/>
                  <a:pt x="12858" y="9320"/>
                  <a:pt x="12397" y="9320"/>
                </a:cubicBezTo>
                <a:cubicBezTo>
                  <a:pt x="11292" y="9320"/>
                  <a:pt x="10186" y="10800"/>
                  <a:pt x="10186" y="12323"/>
                </a:cubicBezTo>
                <a:lnTo>
                  <a:pt x="1018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Ions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65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Q   If aluminum forms an ion, its electron configuration would resemble that of which noble ga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A  Ne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>
            <a:hlinkClick r:id="rId1" action="ppaction://hlinksldjump"/>
          </p:cNvPr>
          <p:cNvSpPr/>
          <p:nvPr/>
        </p:nvSpPr>
        <p:spPr>
          <a:xfrm>
            <a:off x="7315200" y="73152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Ions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ions would be attracted to a cathode r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a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8534520" y="7620120"/>
            <a:ext cx="1600200" cy="167616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76160"/>
              <a:gd name="textAreaBottom" fmla="*/ 1572480 h 1676160"/>
            </a:gdLst>
            <a:ahLst/>
            <a:rect l="textAreaLeft" t="textAreaTop" r="textAreaRight" b="textAreaBottom"/>
            <a:pathLst>
              <a:path w="21600" h="22625">
                <a:moveTo>
                  <a:pt x="0" y="0"/>
                </a:moveTo>
                <a:lnTo>
                  <a:pt x="21600" y="0"/>
                </a:lnTo>
                <a:lnTo>
                  <a:pt x="21600" y="22625"/>
                </a:lnTo>
                <a:lnTo>
                  <a:pt x="0" y="22625"/>
                </a:lnTo>
                <a:close/>
              </a:path>
              <a:path fill="lightenLess" w="21600" h="22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5">
                <a:moveTo>
                  <a:pt x="21600" y="0"/>
                </a:moveTo>
                <a:lnTo>
                  <a:pt x="21600" y="22625"/>
                </a:lnTo>
                <a:lnTo>
                  <a:pt x="20200" y="21225"/>
                </a:lnTo>
                <a:lnTo>
                  <a:pt x="20200" y="1400"/>
                </a:lnTo>
                <a:close/>
              </a:path>
              <a:path fill="darkenLess" w="21600" h="22625">
                <a:moveTo>
                  <a:pt x="21600" y="22625"/>
                </a:moveTo>
                <a:lnTo>
                  <a:pt x="0" y="22625"/>
                </a:lnTo>
                <a:lnTo>
                  <a:pt x="1400" y="21225"/>
                </a:lnTo>
                <a:lnTo>
                  <a:pt x="20200" y="21225"/>
                </a:lnTo>
                <a:close/>
              </a:path>
              <a:path fill="lighten" w="21600" h="22625">
                <a:moveTo>
                  <a:pt x="0" y="22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5"/>
                </a:lnTo>
                <a:close/>
              </a:path>
              <a:path fill="darken" w="21600" h="22625">
                <a:moveTo>
                  <a:pt x="10800" y="1531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25">
                <a:moveTo>
                  <a:pt x="11905" y="14794"/>
                </a:moveTo>
                <a:lnTo>
                  <a:pt x="11905" y="12836"/>
                </a:lnTo>
                <a:cubicBezTo>
                  <a:pt x="11905" y="12009"/>
                  <a:pt x="12236" y="11313"/>
                  <a:pt x="12837" y="11313"/>
                </a:cubicBezTo>
                <a:cubicBezTo>
                  <a:pt x="13968" y="11313"/>
                  <a:pt x="14865" y="9946"/>
                  <a:pt x="14865" y="8362"/>
                </a:cubicBezTo>
                <a:cubicBezTo>
                  <a:pt x="14865" y="6047"/>
                  <a:pt x="13011" y="4306"/>
                  <a:pt x="10800" y="4306"/>
                </a:cubicBezTo>
                <a:cubicBezTo>
                  <a:pt x="8589" y="4306"/>
                  <a:pt x="6918" y="6047"/>
                  <a:pt x="6918" y="8362"/>
                </a:cubicBezTo>
                <a:lnTo>
                  <a:pt x="8772" y="8362"/>
                </a:lnTo>
                <a:cubicBezTo>
                  <a:pt x="8772" y="7222"/>
                  <a:pt x="9695" y="6334"/>
                  <a:pt x="10800" y="6334"/>
                </a:cubicBezTo>
                <a:cubicBezTo>
                  <a:pt x="11905" y="6334"/>
                  <a:pt x="12837" y="7222"/>
                  <a:pt x="12837" y="8362"/>
                </a:cubicBezTo>
                <a:cubicBezTo>
                  <a:pt x="12837" y="9102"/>
                  <a:pt x="12367" y="9833"/>
                  <a:pt x="11905" y="9833"/>
                </a:cubicBezTo>
                <a:cubicBezTo>
                  <a:pt x="10800" y="9833"/>
                  <a:pt x="9695" y="11313"/>
                  <a:pt x="9695" y="12836"/>
                </a:cubicBezTo>
                <a:lnTo>
                  <a:pt x="9695" y="1479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etals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 Do metals gain or lose electrons when forming 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lo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>
            <a:hlinkClick r:id="rId1" action="ppaction://hlinksldjump"/>
          </p:cNvPr>
          <p:cNvSpPr/>
          <p:nvPr/>
        </p:nvSpPr>
        <p:spPr>
          <a:xfrm>
            <a:off x="7086600" y="73915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etals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for a mixture of metal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llo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>
            <a:hlinkClick r:id="rId1" action="ppaction://hlinksldjump"/>
          </p:cNvPr>
          <p:cNvSpPr/>
          <p:nvPr/>
        </p:nvSpPr>
        <p:spPr>
          <a:xfrm>
            <a:off x="9753480" y="7696080"/>
            <a:ext cx="1676520" cy="1447920"/>
          </a:xfrm>
          <a:custGeom>
            <a:avLst/>
            <a:gdLst>
              <a:gd name="textAreaLeft" fmla="*/ 93600 w 1676520"/>
              <a:gd name="textAreaRight" fmla="*/ 1582920 w 16765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9" h="21600">
                <a:moveTo>
                  <a:pt x="0" y="0"/>
                </a:moveTo>
                <a:lnTo>
                  <a:pt x="25009" y="0"/>
                </a:lnTo>
                <a:lnTo>
                  <a:pt x="25009" y="21600"/>
                </a:lnTo>
                <a:lnTo>
                  <a:pt x="0" y="21600"/>
                </a:lnTo>
                <a:close/>
              </a:path>
              <a:path fill="lightenLess" w="25009" h="21600">
                <a:moveTo>
                  <a:pt x="0" y="0"/>
                </a:moveTo>
                <a:lnTo>
                  <a:pt x="25009" y="0"/>
                </a:lnTo>
                <a:lnTo>
                  <a:pt x="23609" y="1400"/>
                </a:lnTo>
                <a:lnTo>
                  <a:pt x="1400" y="1400"/>
                </a:lnTo>
                <a:close/>
              </a:path>
              <a:path fill="darken" w="25009" h="21600">
                <a:moveTo>
                  <a:pt x="25009" y="0"/>
                </a:moveTo>
                <a:lnTo>
                  <a:pt x="25009" y="21600"/>
                </a:lnTo>
                <a:lnTo>
                  <a:pt x="23609" y="20200"/>
                </a:lnTo>
                <a:lnTo>
                  <a:pt x="23609" y="1400"/>
                </a:lnTo>
                <a:close/>
              </a:path>
              <a:path fill="darkenLess" w="25009" h="21600">
                <a:moveTo>
                  <a:pt x="25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9" y="20200"/>
                </a:lnTo>
                <a:close/>
              </a:path>
              <a:path fill="lighten" w="25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9" h="21600">
                <a:moveTo>
                  <a:pt x="125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09" h="21600">
                <a:moveTo>
                  <a:pt x="13610" y="14281"/>
                </a:moveTo>
                <a:lnTo>
                  <a:pt x="13610" y="12323"/>
                </a:lnTo>
                <a:cubicBezTo>
                  <a:pt x="13610" y="11496"/>
                  <a:pt x="13941" y="10800"/>
                  <a:pt x="14541" y="10800"/>
                </a:cubicBezTo>
                <a:cubicBezTo>
                  <a:pt x="15673" y="10800"/>
                  <a:pt x="16569" y="9434"/>
                  <a:pt x="16569" y="7849"/>
                </a:cubicBezTo>
                <a:cubicBezTo>
                  <a:pt x="16569" y="5534"/>
                  <a:pt x="14715" y="3794"/>
                  <a:pt x="12505" y="3794"/>
                </a:cubicBezTo>
                <a:cubicBezTo>
                  <a:pt x="10294" y="3794"/>
                  <a:pt x="8623" y="5534"/>
                  <a:pt x="8623" y="7849"/>
                </a:cubicBezTo>
                <a:lnTo>
                  <a:pt x="10477" y="7849"/>
                </a:lnTo>
                <a:cubicBezTo>
                  <a:pt x="10477" y="6709"/>
                  <a:pt x="11399" y="5821"/>
                  <a:pt x="12505" y="5821"/>
                </a:cubicBezTo>
                <a:cubicBezTo>
                  <a:pt x="13610" y="5821"/>
                  <a:pt x="14541" y="6709"/>
                  <a:pt x="14541" y="7849"/>
                </a:cubicBezTo>
                <a:cubicBezTo>
                  <a:pt x="14541" y="8589"/>
                  <a:pt x="14071" y="9320"/>
                  <a:pt x="13610" y="9320"/>
                </a:cubicBezTo>
                <a:cubicBezTo>
                  <a:pt x="12505" y="9320"/>
                  <a:pt x="11399" y="10800"/>
                  <a:pt x="11399" y="12323"/>
                </a:cubicBezTo>
                <a:lnTo>
                  <a:pt x="11399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etals for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37242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property of metals that describes its ability to be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>
            <a:hlinkClick r:id="rId1" action="ppaction://hlinksldjump"/>
          </p:cNvPr>
          <p:cNvSpPr/>
          <p:nvPr/>
        </p:nvSpPr>
        <p:spPr>
          <a:xfrm>
            <a:off x="7315200" y="784872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163520" y="6324480"/>
            <a:ext cx="132145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Malleability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etals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312800" cy="11332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52000"/>
          </a:bodyPr>
          <a:p>
            <a:pPr marL="199440" indent="-19944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Q  Metallic bonding is described as metal ions floating in a “what”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1994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>
            <a:hlinkClick r:id="rId1" action="ppaction://hlinksldjump"/>
          </p:cNvPr>
          <p:cNvSpPr/>
          <p:nvPr/>
        </p:nvSpPr>
        <p:spPr>
          <a:xfrm>
            <a:off x="67057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219320" y="5257800"/>
            <a:ext cx="13214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Sea of Electrons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1321452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8800" spc="-1" strike="noStrike" u="sng">
                <a:solidFill>
                  <a:srgbClr val="ffffff"/>
                </a:solidFill>
                <a:uFillTx/>
                <a:latin typeface="Times New Roman"/>
              </a:rPr>
              <a:t>GAME RULES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13214520" cy="7848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om split into 2 teams (RIGHT Vs. LEF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nner of the coin toss decides the firs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ch team will have 1 person compete at a ti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the team answers incorrectly the other team has a chance to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think you know the answer raise your h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core will be kept on th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re is 1 Daily Double question in the first round, 2 in Double Jeopardy, which are worth any amount that the team wishes to b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5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Daily Doubl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How Much will you Wager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ailydoubl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etals for 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at type of alloy is formed from atoms that differ in siz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Interstitial Allo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>
            <a:hlinkClick r:id="rId1" action="ppaction://hlinksldjump"/>
          </p:cNvPr>
          <p:cNvSpPr/>
          <p:nvPr/>
        </p:nvSpPr>
        <p:spPr>
          <a:xfrm>
            <a:off x="7162920" y="754380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148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5">
                <a:moveTo>
                  <a:pt x="11905" y="14284"/>
                </a:moveTo>
                <a:lnTo>
                  <a:pt x="11905" y="12326"/>
                </a:lnTo>
                <a:cubicBezTo>
                  <a:pt x="11905" y="11499"/>
                  <a:pt x="12236" y="10803"/>
                  <a:pt x="12837" y="10803"/>
                </a:cubicBezTo>
                <a:cubicBezTo>
                  <a:pt x="13968" y="10803"/>
                  <a:pt x="14865" y="9436"/>
                  <a:pt x="14865" y="7852"/>
                </a:cubicBezTo>
                <a:cubicBezTo>
                  <a:pt x="14865" y="5537"/>
                  <a:pt x="13011" y="3796"/>
                  <a:pt x="10800" y="3796"/>
                </a:cubicBezTo>
                <a:cubicBezTo>
                  <a:pt x="8589" y="3796"/>
                  <a:pt x="6918" y="5537"/>
                  <a:pt x="6918" y="7852"/>
                </a:cubicBezTo>
                <a:lnTo>
                  <a:pt x="8772" y="7852"/>
                </a:lnTo>
                <a:cubicBezTo>
                  <a:pt x="8772" y="6712"/>
                  <a:pt x="9695" y="5824"/>
                  <a:pt x="10800" y="5824"/>
                </a:cubicBezTo>
                <a:cubicBezTo>
                  <a:pt x="11905" y="5824"/>
                  <a:pt x="12837" y="6712"/>
                  <a:pt x="12837" y="7852"/>
                </a:cubicBezTo>
                <a:cubicBezTo>
                  <a:pt x="12837" y="8592"/>
                  <a:pt x="12367" y="9323"/>
                  <a:pt x="11905" y="9323"/>
                </a:cubicBezTo>
                <a:cubicBezTo>
                  <a:pt x="10800" y="9323"/>
                  <a:pt x="9695" y="10803"/>
                  <a:pt x="9695" y="12326"/>
                </a:cubicBezTo>
                <a:lnTo>
                  <a:pt x="9695" y="1428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racteristics of </a:t>
            </a:r>
            <a:br>
              <a:rPr sz="7200"/>
            </a:b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charge of an ionic compou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Zero (neutral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>
            <a:hlinkClick r:id="rId1" action="ppaction://hlinksldjump"/>
          </p:cNvPr>
          <p:cNvSpPr/>
          <p:nvPr/>
        </p:nvSpPr>
        <p:spPr>
          <a:xfrm>
            <a:off x="12344400" y="7391520"/>
            <a:ext cx="1523880" cy="1218960"/>
          </a:xfrm>
          <a:custGeom>
            <a:avLst/>
            <a:gdLst>
              <a:gd name="textAreaLeft" fmla="*/ 78840 w 1523880"/>
              <a:gd name="textAreaRight" fmla="*/ 1445040 w 152388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7002" h="21600">
                <a:moveTo>
                  <a:pt x="0" y="0"/>
                </a:moveTo>
                <a:lnTo>
                  <a:pt x="27002" y="0"/>
                </a:lnTo>
                <a:lnTo>
                  <a:pt x="27002" y="21600"/>
                </a:lnTo>
                <a:lnTo>
                  <a:pt x="0" y="21600"/>
                </a:lnTo>
                <a:close/>
              </a:path>
              <a:path fill="lightenLess" w="27002" h="21600">
                <a:moveTo>
                  <a:pt x="0" y="0"/>
                </a:moveTo>
                <a:lnTo>
                  <a:pt x="27002" y="0"/>
                </a:lnTo>
                <a:lnTo>
                  <a:pt x="25602" y="1400"/>
                </a:lnTo>
                <a:lnTo>
                  <a:pt x="1400" y="1400"/>
                </a:lnTo>
                <a:close/>
              </a:path>
              <a:path fill="darken" w="27002" h="21600">
                <a:moveTo>
                  <a:pt x="27002" y="0"/>
                </a:moveTo>
                <a:lnTo>
                  <a:pt x="27002" y="21600"/>
                </a:lnTo>
                <a:lnTo>
                  <a:pt x="25602" y="20200"/>
                </a:lnTo>
                <a:lnTo>
                  <a:pt x="25602" y="1400"/>
                </a:lnTo>
                <a:close/>
              </a:path>
              <a:path fill="darkenLess" w="27002" h="21600">
                <a:moveTo>
                  <a:pt x="27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2" y="20200"/>
                </a:lnTo>
                <a:close/>
              </a:path>
              <a:path fill="lighten" w="27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2" h="21600">
                <a:moveTo>
                  <a:pt x="135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2" h="21600">
                <a:moveTo>
                  <a:pt x="14606" y="14281"/>
                </a:moveTo>
                <a:lnTo>
                  <a:pt x="14606" y="12323"/>
                </a:lnTo>
                <a:cubicBezTo>
                  <a:pt x="14606" y="11496"/>
                  <a:pt x="14937" y="10800"/>
                  <a:pt x="15537" y="10800"/>
                </a:cubicBezTo>
                <a:cubicBezTo>
                  <a:pt x="16669" y="10800"/>
                  <a:pt x="17565" y="9434"/>
                  <a:pt x="17565" y="7849"/>
                </a:cubicBezTo>
                <a:cubicBezTo>
                  <a:pt x="17565" y="5534"/>
                  <a:pt x="15712" y="3794"/>
                  <a:pt x="13501" y="3794"/>
                </a:cubicBezTo>
                <a:cubicBezTo>
                  <a:pt x="11290" y="3794"/>
                  <a:pt x="9619" y="5534"/>
                  <a:pt x="9619" y="7849"/>
                </a:cubicBezTo>
                <a:lnTo>
                  <a:pt x="11473" y="7849"/>
                </a:lnTo>
                <a:cubicBezTo>
                  <a:pt x="11473" y="6709"/>
                  <a:pt x="12395" y="5821"/>
                  <a:pt x="13501" y="5821"/>
                </a:cubicBezTo>
                <a:cubicBezTo>
                  <a:pt x="14606" y="5821"/>
                  <a:pt x="15537" y="6709"/>
                  <a:pt x="15537" y="7849"/>
                </a:cubicBezTo>
                <a:cubicBezTo>
                  <a:pt x="15537" y="8589"/>
                  <a:pt x="15067" y="9320"/>
                  <a:pt x="14606" y="9320"/>
                </a:cubicBezTo>
                <a:cubicBezTo>
                  <a:pt x="13501" y="9320"/>
                  <a:pt x="12395" y="10800"/>
                  <a:pt x="12395" y="12323"/>
                </a:cubicBezTo>
                <a:lnTo>
                  <a:pt x="123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racteristics of </a:t>
            </a:r>
            <a:br>
              <a:rPr sz="7200"/>
            </a:b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solids are ionic solid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rystalli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>
            <a:hlinkClick r:id="rId1" action="ppaction://hlinksldjump"/>
          </p:cNvPr>
          <p:cNvSpPr/>
          <p:nvPr/>
        </p:nvSpPr>
        <p:spPr>
          <a:xfrm>
            <a:off x="105919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racteristics of </a:t>
            </a:r>
            <a:br>
              <a:rPr sz="7200"/>
            </a:b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for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Name one general characteristic of ionic compounds besides conductivity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High melting point, etc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4">
            <a:hlinkClick r:id="rId1" action="ppaction://hlinksldjump"/>
          </p:cNvPr>
          <p:cNvSpPr/>
          <p:nvPr/>
        </p:nvSpPr>
        <p:spPr>
          <a:xfrm>
            <a:off x="7315200" y="73915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119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7" h="21600">
                <a:moveTo>
                  <a:pt x="13104" y="14281"/>
                </a:moveTo>
                <a:lnTo>
                  <a:pt x="13104" y="12323"/>
                </a:lnTo>
                <a:cubicBezTo>
                  <a:pt x="13104" y="11496"/>
                  <a:pt x="13435" y="10800"/>
                  <a:pt x="14035" y="10800"/>
                </a:cubicBezTo>
                <a:cubicBezTo>
                  <a:pt x="15167" y="10800"/>
                  <a:pt x="16063" y="9434"/>
                  <a:pt x="16063" y="7849"/>
                </a:cubicBezTo>
                <a:cubicBezTo>
                  <a:pt x="16063" y="5534"/>
                  <a:pt x="14209" y="3794"/>
                  <a:pt x="11999" y="3794"/>
                </a:cubicBezTo>
                <a:cubicBezTo>
                  <a:pt x="9788" y="3794"/>
                  <a:pt x="8117" y="5534"/>
                  <a:pt x="8117" y="7849"/>
                </a:cubicBezTo>
                <a:lnTo>
                  <a:pt x="9971" y="7849"/>
                </a:lnTo>
                <a:cubicBezTo>
                  <a:pt x="9971" y="6709"/>
                  <a:pt x="10893" y="5821"/>
                  <a:pt x="11999" y="5821"/>
                </a:cubicBezTo>
                <a:cubicBezTo>
                  <a:pt x="13104" y="5821"/>
                  <a:pt x="14035" y="6709"/>
                  <a:pt x="14035" y="7849"/>
                </a:cubicBezTo>
                <a:cubicBezTo>
                  <a:pt x="14035" y="8589"/>
                  <a:pt x="13565" y="9320"/>
                  <a:pt x="13104" y="9320"/>
                </a:cubicBezTo>
                <a:cubicBezTo>
                  <a:pt x="11999" y="9320"/>
                  <a:pt x="10893" y="10800"/>
                  <a:pt x="10893" y="12323"/>
                </a:cubicBezTo>
                <a:lnTo>
                  <a:pt x="1089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racteristics of </a:t>
            </a:r>
            <a:br>
              <a:rPr sz="7200"/>
            </a:b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for the simplest whole number ratio of atoms in an ionic compou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ormula Uni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>
            <a:hlinkClick r:id="rId1" action="ppaction://hlinksldjump"/>
          </p:cNvPr>
          <p:cNvSpPr/>
          <p:nvPr/>
        </p:nvSpPr>
        <p:spPr>
          <a:xfrm>
            <a:off x="6477120" y="7772400"/>
            <a:ext cx="2057400" cy="1447920"/>
          </a:xfrm>
          <a:custGeom>
            <a:avLst/>
            <a:gdLst>
              <a:gd name="textAreaLeft" fmla="*/ 93600 w 2057400"/>
              <a:gd name="textAreaRight" fmla="*/ 1963800 w 20574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0690" h="21600">
                <a:moveTo>
                  <a:pt x="0" y="0"/>
                </a:moveTo>
                <a:lnTo>
                  <a:pt x="30690" y="0"/>
                </a:lnTo>
                <a:lnTo>
                  <a:pt x="30690" y="21600"/>
                </a:lnTo>
                <a:lnTo>
                  <a:pt x="0" y="21600"/>
                </a:lnTo>
                <a:close/>
              </a:path>
              <a:path fill="lightenLess" w="30690" h="21600">
                <a:moveTo>
                  <a:pt x="0" y="0"/>
                </a:moveTo>
                <a:lnTo>
                  <a:pt x="30690" y="0"/>
                </a:lnTo>
                <a:lnTo>
                  <a:pt x="29290" y="1400"/>
                </a:lnTo>
                <a:lnTo>
                  <a:pt x="1400" y="1400"/>
                </a:lnTo>
                <a:close/>
              </a:path>
              <a:path fill="darken" w="30690" h="21600">
                <a:moveTo>
                  <a:pt x="30690" y="0"/>
                </a:moveTo>
                <a:lnTo>
                  <a:pt x="30690" y="21600"/>
                </a:lnTo>
                <a:lnTo>
                  <a:pt x="29290" y="20200"/>
                </a:lnTo>
                <a:lnTo>
                  <a:pt x="29290" y="1400"/>
                </a:lnTo>
                <a:close/>
              </a:path>
              <a:path fill="darkenLess" w="30690" h="21600">
                <a:moveTo>
                  <a:pt x="30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0" y="20200"/>
                </a:lnTo>
                <a:close/>
              </a:path>
              <a:path fill="lighten" w="30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0" h="21600">
                <a:moveTo>
                  <a:pt x="153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90" h="21600">
                <a:moveTo>
                  <a:pt x="16450" y="14281"/>
                </a:moveTo>
                <a:lnTo>
                  <a:pt x="16450" y="12323"/>
                </a:lnTo>
                <a:cubicBezTo>
                  <a:pt x="16450" y="11496"/>
                  <a:pt x="16781" y="10800"/>
                  <a:pt x="17382" y="10800"/>
                </a:cubicBezTo>
                <a:cubicBezTo>
                  <a:pt x="18513" y="10800"/>
                  <a:pt x="19410" y="9434"/>
                  <a:pt x="19410" y="7849"/>
                </a:cubicBezTo>
                <a:cubicBezTo>
                  <a:pt x="19410" y="5534"/>
                  <a:pt x="17556" y="3794"/>
                  <a:pt x="15345" y="3794"/>
                </a:cubicBezTo>
                <a:cubicBezTo>
                  <a:pt x="13134" y="3794"/>
                  <a:pt x="11463" y="5534"/>
                  <a:pt x="11463" y="7849"/>
                </a:cubicBezTo>
                <a:lnTo>
                  <a:pt x="13317" y="7849"/>
                </a:lnTo>
                <a:cubicBezTo>
                  <a:pt x="13317" y="6709"/>
                  <a:pt x="14240" y="5821"/>
                  <a:pt x="15345" y="5821"/>
                </a:cubicBezTo>
                <a:cubicBezTo>
                  <a:pt x="16450" y="5821"/>
                  <a:pt x="17382" y="6709"/>
                  <a:pt x="17382" y="7849"/>
                </a:cubicBezTo>
                <a:cubicBezTo>
                  <a:pt x="17382" y="8589"/>
                  <a:pt x="16912" y="9320"/>
                  <a:pt x="16450" y="9320"/>
                </a:cubicBezTo>
                <a:cubicBezTo>
                  <a:pt x="15345" y="9320"/>
                  <a:pt x="14240" y="10800"/>
                  <a:pt x="14240" y="12323"/>
                </a:cubicBezTo>
                <a:lnTo>
                  <a:pt x="1424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racteristics of </a:t>
            </a:r>
            <a:br>
              <a:rPr sz="7200"/>
            </a:b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for 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Under what two conditions can an ionic compound conduct electricit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If it is melted (molten) or dissolved in water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>
            <a:hlinkClick r:id="rId1" action="ppaction://hlinksldjump"/>
          </p:cNvPr>
          <p:cNvSpPr/>
          <p:nvPr/>
        </p:nvSpPr>
        <p:spPr>
          <a:xfrm>
            <a:off x="9296280" y="781380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12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99" h="21600">
                <a:moveTo>
                  <a:pt x="13705" y="14281"/>
                </a:moveTo>
                <a:lnTo>
                  <a:pt x="13705" y="12323"/>
                </a:lnTo>
                <a:cubicBezTo>
                  <a:pt x="13705" y="11496"/>
                  <a:pt x="14036" y="10800"/>
                  <a:pt x="14636" y="10800"/>
                </a:cubicBezTo>
                <a:cubicBezTo>
                  <a:pt x="15768" y="10800"/>
                  <a:pt x="16664" y="9434"/>
                  <a:pt x="16664" y="7849"/>
                </a:cubicBezTo>
                <a:cubicBezTo>
                  <a:pt x="16664" y="5534"/>
                  <a:pt x="14810" y="3794"/>
                  <a:pt x="12600" y="3794"/>
                </a:cubicBezTo>
                <a:cubicBezTo>
                  <a:pt x="10389" y="3794"/>
                  <a:pt x="8718" y="5534"/>
                  <a:pt x="8718" y="7849"/>
                </a:cubicBezTo>
                <a:lnTo>
                  <a:pt x="10572" y="7849"/>
                </a:lnTo>
                <a:cubicBezTo>
                  <a:pt x="10572" y="6709"/>
                  <a:pt x="11494" y="5821"/>
                  <a:pt x="12600" y="5821"/>
                </a:cubicBezTo>
                <a:cubicBezTo>
                  <a:pt x="13705" y="5821"/>
                  <a:pt x="14636" y="6709"/>
                  <a:pt x="14636" y="7849"/>
                </a:cubicBezTo>
                <a:cubicBezTo>
                  <a:pt x="14636" y="8589"/>
                  <a:pt x="14166" y="9320"/>
                  <a:pt x="13705" y="9320"/>
                </a:cubicBezTo>
                <a:cubicBezTo>
                  <a:pt x="12600" y="9320"/>
                  <a:pt x="11494" y="10800"/>
                  <a:pt x="11494" y="12323"/>
                </a:cubicBezTo>
                <a:lnTo>
                  <a:pt x="1149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What is the chemical formula of a compound that contains sodium and sulfu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Na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4">
            <a:hlinkClick r:id="rId1" action="ppaction://hlinksldjump"/>
          </p:cNvPr>
          <p:cNvSpPr/>
          <p:nvPr/>
        </p:nvSpPr>
        <p:spPr>
          <a:xfrm>
            <a:off x="6705720" y="7391520"/>
            <a:ext cx="1447560" cy="144756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of the following compound?</a:t>
            </a: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FeF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Iron (III) Fluorid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7543800" y="7543800"/>
            <a:ext cx="1600200" cy="1447920"/>
          </a:xfrm>
          <a:custGeom>
            <a:avLst/>
            <a:gdLst>
              <a:gd name="textAreaLeft" fmla="*/ 93600 w 1600200"/>
              <a:gd name="textAreaRight" fmla="*/ 1506600 w 16002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3871" h="21600">
                <a:moveTo>
                  <a:pt x="0" y="0"/>
                </a:moveTo>
                <a:lnTo>
                  <a:pt x="23871" y="0"/>
                </a:lnTo>
                <a:lnTo>
                  <a:pt x="23871" y="21600"/>
                </a:lnTo>
                <a:lnTo>
                  <a:pt x="0" y="21600"/>
                </a:lnTo>
                <a:close/>
              </a:path>
              <a:path fill="lightenLess" w="23871" h="21600">
                <a:moveTo>
                  <a:pt x="0" y="0"/>
                </a:moveTo>
                <a:lnTo>
                  <a:pt x="23871" y="0"/>
                </a:lnTo>
                <a:lnTo>
                  <a:pt x="22471" y="1400"/>
                </a:lnTo>
                <a:lnTo>
                  <a:pt x="1400" y="1400"/>
                </a:lnTo>
                <a:close/>
              </a:path>
              <a:path fill="darken" w="23871" h="21600">
                <a:moveTo>
                  <a:pt x="23871" y="0"/>
                </a:moveTo>
                <a:lnTo>
                  <a:pt x="23871" y="21600"/>
                </a:lnTo>
                <a:lnTo>
                  <a:pt x="22471" y="20200"/>
                </a:lnTo>
                <a:lnTo>
                  <a:pt x="22471" y="1400"/>
                </a:lnTo>
                <a:close/>
              </a:path>
              <a:path fill="darkenLess" w="23871" h="21600">
                <a:moveTo>
                  <a:pt x="23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1" y="20200"/>
                </a:lnTo>
                <a:close/>
              </a:path>
              <a:path fill="lighten" w="23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1" h="21600">
                <a:moveTo>
                  <a:pt x="119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71" h="21600">
                <a:moveTo>
                  <a:pt x="13041" y="14281"/>
                </a:moveTo>
                <a:lnTo>
                  <a:pt x="13041" y="12323"/>
                </a:lnTo>
                <a:cubicBezTo>
                  <a:pt x="13041" y="11496"/>
                  <a:pt x="13372" y="10800"/>
                  <a:pt x="13972" y="10800"/>
                </a:cubicBezTo>
                <a:cubicBezTo>
                  <a:pt x="15104" y="10800"/>
                  <a:pt x="16000" y="9434"/>
                  <a:pt x="16000" y="7849"/>
                </a:cubicBezTo>
                <a:cubicBezTo>
                  <a:pt x="16000" y="5534"/>
                  <a:pt x="14146" y="3794"/>
                  <a:pt x="11936" y="3794"/>
                </a:cubicBezTo>
                <a:cubicBezTo>
                  <a:pt x="9725" y="3794"/>
                  <a:pt x="8054" y="5534"/>
                  <a:pt x="8054" y="7849"/>
                </a:cubicBezTo>
                <a:lnTo>
                  <a:pt x="9908" y="7849"/>
                </a:lnTo>
                <a:cubicBezTo>
                  <a:pt x="9908" y="6709"/>
                  <a:pt x="10830" y="5821"/>
                  <a:pt x="11936" y="5821"/>
                </a:cubicBezTo>
                <a:cubicBezTo>
                  <a:pt x="13041" y="5821"/>
                  <a:pt x="13972" y="6709"/>
                  <a:pt x="13972" y="7849"/>
                </a:cubicBezTo>
                <a:cubicBezTo>
                  <a:pt x="13972" y="8589"/>
                  <a:pt x="13502" y="9320"/>
                  <a:pt x="13041" y="9320"/>
                </a:cubicBezTo>
                <a:cubicBezTo>
                  <a:pt x="11936" y="9320"/>
                  <a:pt x="10830" y="10800"/>
                  <a:pt x="10830" y="12323"/>
                </a:cubicBezTo>
                <a:lnTo>
                  <a:pt x="1083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oxyanion has one more oxygen atom –ate or –it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-a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4">
            <a:hlinkClick r:id="rId1" action="ppaction://hlinksldjump"/>
          </p:cNvPr>
          <p:cNvSpPr/>
          <p:nvPr/>
        </p:nvSpPr>
        <p:spPr>
          <a:xfrm>
            <a:off x="7238880" y="7696080"/>
            <a:ext cx="1524240" cy="1295640"/>
          </a:xfrm>
          <a:custGeom>
            <a:avLst/>
            <a:gdLst>
              <a:gd name="textAreaLeft" fmla="*/ 83880 w 1524240"/>
              <a:gd name="textAreaRight" fmla="*/ 1440360 w 15242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127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10" h="21600">
                <a:moveTo>
                  <a:pt x="13810" y="14281"/>
                </a:moveTo>
                <a:lnTo>
                  <a:pt x="13810" y="12323"/>
                </a:lnTo>
                <a:cubicBezTo>
                  <a:pt x="13810" y="11496"/>
                  <a:pt x="14141" y="10800"/>
                  <a:pt x="14742" y="10800"/>
                </a:cubicBezTo>
                <a:cubicBezTo>
                  <a:pt x="15873" y="10800"/>
                  <a:pt x="16770" y="9434"/>
                  <a:pt x="16770" y="7849"/>
                </a:cubicBezTo>
                <a:cubicBezTo>
                  <a:pt x="16770" y="5534"/>
                  <a:pt x="14916" y="3794"/>
                  <a:pt x="12705" y="3794"/>
                </a:cubicBezTo>
                <a:cubicBezTo>
                  <a:pt x="10494" y="3794"/>
                  <a:pt x="8823" y="5534"/>
                  <a:pt x="8823" y="7849"/>
                </a:cubicBezTo>
                <a:lnTo>
                  <a:pt x="10677" y="7849"/>
                </a:lnTo>
                <a:cubicBezTo>
                  <a:pt x="10677" y="6709"/>
                  <a:pt x="11600" y="5821"/>
                  <a:pt x="12705" y="5821"/>
                </a:cubicBezTo>
                <a:cubicBezTo>
                  <a:pt x="13810" y="5821"/>
                  <a:pt x="14742" y="6709"/>
                  <a:pt x="14742" y="7849"/>
                </a:cubicBezTo>
                <a:cubicBezTo>
                  <a:pt x="14742" y="8589"/>
                  <a:pt x="14272" y="9320"/>
                  <a:pt x="13810" y="9320"/>
                </a:cubicBezTo>
                <a:cubicBezTo>
                  <a:pt x="12705" y="9320"/>
                  <a:pt x="11600" y="10800"/>
                  <a:pt x="11600" y="12323"/>
                </a:cubicBezTo>
                <a:lnTo>
                  <a:pt x="1160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1321416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132145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0" algn="ctr">
              <a:lnSpc>
                <a:spcPct val="130000"/>
              </a:lnSpc>
              <a:spcBef>
                <a:spcPts val="32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Times New Roman"/>
              </a:rPr>
              <a:t>ANY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ctr">
              <a:lnSpc>
                <a:spcPct val="130000"/>
              </a:lnSpc>
              <a:spcBef>
                <a:spcPts val="32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40920" y="914040"/>
            <a:ext cx="1321452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I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many potassium ions must donate their single valence electron when forming an ionic bond with phosphoru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">
            <a:hlinkClick r:id="rId1" action="ppaction://hlinksldjump"/>
          </p:cNvPr>
          <p:cNvSpPr/>
          <p:nvPr/>
        </p:nvSpPr>
        <p:spPr>
          <a:xfrm>
            <a:off x="7162920" y="76960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9" h="21600">
                <a:moveTo>
                  <a:pt x="14065" y="14281"/>
                </a:moveTo>
                <a:lnTo>
                  <a:pt x="14065" y="12323"/>
                </a:lnTo>
                <a:cubicBezTo>
                  <a:pt x="14065" y="11496"/>
                  <a:pt x="14395" y="10800"/>
                  <a:pt x="14996" y="10800"/>
                </a:cubicBezTo>
                <a:cubicBezTo>
                  <a:pt x="16127" y="10800"/>
                  <a:pt x="17024" y="9434"/>
                  <a:pt x="17024" y="7849"/>
                </a:cubicBezTo>
                <a:cubicBezTo>
                  <a:pt x="17024" y="5534"/>
                  <a:pt x="15170" y="3794"/>
                  <a:pt x="12959" y="3794"/>
                </a:cubicBezTo>
                <a:cubicBezTo>
                  <a:pt x="10749" y="3794"/>
                  <a:pt x="9077" y="5534"/>
                  <a:pt x="9077" y="7849"/>
                </a:cubicBezTo>
                <a:lnTo>
                  <a:pt x="10931" y="7849"/>
                </a:lnTo>
                <a:cubicBezTo>
                  <a:pt x="10931" y="6709"/>
                  <a:pt x="11854" y="5821"/>
                  <a:pt x="12959" y="5821"/>
                </a:cubicBezTo>
                <a:cubicBezTo>
                  <a:pt x="14065" y="5821"/>
                  <a:pt x="14996" y="6709"/>
                  <a:pt x="14996" y="7849"/>
                </a:cubicBezTo>
                <a:cubicBezTo>
                  <a:pt x="14996" y="8589"/>
                  <a:pt x="14526" y="9320"/>
                  <a:pt x="14065" y="9320"/>
                </a:cubicBezTo>
                <a:cubicBezTo>
                  <a:pt x="12959" y="9320"/>
                  <a:pt x="11854" y="10800"/>
                  <a:pt x="11854" y="12323"/>
                </a:cubicBezTo>
                <a:lnTo>
                  <a:pt x="1185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chemical formula for chromium (III) dichromate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r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(Cr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>
            <a:hlinkClick r:id="rId1" action="ppaction://hlinksldjump"/>
          </p:cNvPr>
          <p:cNvSpPr/>
          <p:nvPr/>
        </p:nvSpPr>
        <p:spPr>
          <a:xfrm>
            <a:off x="7238880" y="784872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4" h="21600">
                <a:moveTo>
                  <a:pt x="122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84" h="21600">
                <a:moveTo>
                  <a:pt x="13347" y="14281"/>
                </a:moveTo>
                <a:lnTo>
                  <a:pt x="13347" y="12323"/>
                </a:lnTo>
                <a:cubicBezTo>
                  <a:pt x="13347" y="11496"/>
                  <a:pt x="13678" y="10800"/>
                  <a:pt x="14278" y="10800"/>
                </a:cubicBezTo>
                <a:cubicBezTo>
                  <a:pt x="15410" y="10800"/>
                  <a:pt x="16306" y="9434"/>
                  <a:pt x="16306" y="7849"/>
                </a:cubicBezTo>
                <a:cubicBezTo>
                  <a:pt x="16306" y="5534"/>
                  <a:pt x="14453" y="3794"/>
                  <a:pt x="12242" y="3794"/>
                </a:cubicBezTo>
                <a:cubicBezTo>
                  <a:pt x="10031" y="3794"/>
                  <a:pt x="8360" y="5534"/>
                  <a:pt x="8360" y="7849"/>
                </a:cubicBezTo>
                <a:lnTo>
                  <a:pt x="10214" y="7849"/>
                </a:lnTo>
                <a:cubicBezTo>
                  <a:pt x="10214" y="6709"/>
                  <a:pt x="11136" y="5821"/>
                  <a:pt x="12242" y="5821"/>
                </a:cubicBezTo>
                <a:cubicBezTo>
                  <a:pt x="13347" y="5821"/>
                  <a:pt x="14278" y="6709"/>
                  <a:pt x="14278" y="7849"/>
                </a:cubicBezTo>
                <a:cubicBezTo>
                  <a:pt x="14278" y="8589"/>
                  <a:pt x="13808" y="9320"/>
                  <a:pt x="13347" y="9320"/>
                </a:cubicBezTo>
                <a:cubicBezTo>
                  <a:pt x="12242" y="9320"/>
                  <a:pt x="11136" y="10800"/>
                  <a:pt x="11136" y="12323"/>
                </a:cubicBezTo>
                <a:lnTo>
                  <a:pt x="1113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acid is HC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 binary ac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">
            <a:hlinkClick r:id="rId1" action="ppaction://hlinksldjump"/>
          </p:cNvPr>
          <p:cNvSpPr/>
          <p:nvPr/>
        </p:nvSpPr>
        <p:spPr>
          <a:xfrm>
            <a:off x="6934320" y="77724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1367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354" h="21600">
                <a:moveTo>
                  <a:pt x="14782" y="14281"/>
                </a:moveTo>
                <a:lnTo>
                  <a:pt x="14782" y="12323"/>
                </a:lnTo>
                <a:cubicBezTo>
                  <a:pt x="14782" y="11496"/>
                  <a:pt x="15113" y="10800"/>
                  <a:pt x="15713" y="10800"/>
                </a:cubicBezTo>
                <a:cubicBezTo>
                  <a:pt x="16845" y="10800"/>
                  <a:pt x="17741" y="9434"/>
                  <a:pt x="17741" y="7849"/>
                </a:cubicBezTo>
                <a:cubicBezTo>
                  <a:pt x="17741" y="5534"/>
                  <a:pt x="15888" y="3794"/>
                  <a:pt x="13677" y="3794"/>
                </a:cubicBezTo>
                <a:cubicBezTo>
                  <a:pt x="11466" y="3794"/>
                  <a:pt x="9795" y="5534"/>
                  <a:pt x="9795" y="7849"/>
                </a:cubicBezTo>
                <a:lnTo>
                  <a:pt x="11649" y="7849"/>
                </a:lnTo>
                <a:cubicBezTo>
                  <a:pt x="11649" y="6709"/>
                  <a:pt x="12571" y="5821"/>
                  <a:pt x="13677" y="5821"/>
                </a:cubicBezTo>
                <a:cubicBezTo>
                  <a:pt x="14782" y="5821"/>
                  <a:pt x="15713" y="6709"/>
                  <a:pt x="15713" y="7849"/>
                </a:cubicBezTo>
                <a:cubicBezTo>
                  <a:pt x="15713" y="8589"/>
                  <a:pt x="15243" y="9320"/>
                  <a:pt x="14782" y="9320"/>
                </a:cubicBezTo>
                <a:cubicBezTo>
                  <a:pt x="13677" y="9320"/>
                  <a:pt x="12571" y="10800"/>
                  <a:pt x="12571" y="12323"/>
                </a:cubicBezTo>
                <a:lnTo>
                  <a:pt x="1257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The names of binary acids begin with what prefix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Hydro-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">
            <a:hlinkClick r:id="rId1" action="ppaction://hlinksldjump"/>
          </p:cNvPr>
          <p:cNvSpPr/>
          <p:nvPr/>
        </p:nvSpPr>
        <p:spPr>
          <a:xfrm>
            <a:off x="7086600" y="7620120"/>
            <a:ext cx="1295280" cy="12952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The names of acids that contain polyatomic anions ending in –ate end in what suffix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-i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>
            <a:hlinkClick r:id="rId1" action="ppaction://hlinksldjump"/>
          </p:cNvPr>
          <p:cNvSpPr/>
          <p:nvPr/>
        </p:nvSpPr>
        <p:spPr>
          <a:xfrm>
            <a:off x="6705720" y="73152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82" h="21600">
                <a:moveTo>
                  <a:pt x="113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682" h="21600">
                <a:moveTo>
                  <a:pt x="12446" y="14281"/>
                </a:moveTo>
                <a:lnTo>
                  <a:pt x="12446" y="12323"/>
                </a:lnTo>
                <a:cubicBezTo>
                  <a:pt x="12446" y="11496"/>
                  <a:pt x="12777" y="10800"/>
                  <a:pt x="13377" y="10800"/>
                </a:cubicBezTo>
                <a:cubicBezTo>
                  <a:pt x="14509" y="10800"/>
                  <a:pt x="15405" y="9434"/>
                  <a:pt x="15405" y="7849"/>
                </a:cubicBezTo>
                <a:cubicBezTo>
                  <a:pt x="15405" y="5534"/>
                  <a:pt x="13552" y="3794"/>
                  <a:pt x="11341" y="3794"/>
                </a:cubicBezTo>
                <a:cubicBezTo>
                  <a:pt x="9130" y="3794"/>
                  <a:pt x="7459" y="5534"/>
                  <a:pt x="7459" y="7849"/>
                </a:cubicBezTo>
                <a:lnTo>
                  <a:pt x="9313" y="7849"/>
                </a:lnTo>
                <a:cubicBezTo>
                  <a:pt x="9313" y="6709"/>
                  <a:pt x="10235" y="5821"/>
                  <a:pt x="11341" y="5821"/>
                </a:cubicBezTo>
                <a:cubicBezTo>
                  <a:pt x="12446" y="5821"/>
                  <a:pt x="13377" y="6709"/>
                  <a:pt x="13377" y="7849"/>
                </a:cubicBezTo>
                <a:cubicBezTo>
                  <a:pt x="13377" y="8589"/>
                  <a:pt x="12907" y="9320"/>
                  <a:pt x="12446" y="9320"/>
                </a:cubicBezTo>
                <a:cubicBezTo>
                  <a:pt x="11341" y="9320"/>
                  <a:pt x="10235" y="10800"/>
                  <a:pt x="10235" y="12323"/>
                </a:cubicBezTo>
                <a:lnTo>
                  <a:pt x="1023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force holds oppositely charged ions together in an ionic bo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lectrostati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4">
            <a:hlinkClick r:id="rId1" action="ppaction://hlinksldjump"/>
          </p:cNvPr>
          <p:cNvSpPr/>
          <p:nvPr/>
        </p:nvSpPr>
        <p:spPr>
          <a:xfrm>
            <a:off x="7238880" y="7696080"/>
            <a:ext cx="1524240" cy="1447920"/>
          </a:xfrm>
          <a:custGeom>
            <a:avLst/>
            <a:gdLst>
              <a:gd name="textAreaLeft" fmla="*/ 93600 w 1524240"/>
              <a:gd name="textAreaRight" fmla="*/ 1430640 w 15242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2738" h="21600">
                <a:moveTo>
                  <a:pt x="0" y="0"/>
                </a:moveTo>
                <a:lnTo>
                  <a:pt x="22738" y="0"/>
                </a:lnTo>
                <a:lnTo>
                  <a:pt x="22738" y="21600"/>
                </a:lnTo>
                <a:lnTo>
                  <a:pt x="0" y="21600"/>
                </a:lnTo>
                <a:close/>
              </a:path>
              <a:path fill="lightenLess" w="22738" h="21600">
                <a:moveTo>
                  <a:pt x="0" y="0"/>
                </a:moveTo>
                <a:lnTo>
                  <a:pt x="22738" y="0"/>
                </a:lnTo>
                <a:lnTo>
                  <a:pt x="21338" y="1400"/>
                </a:lnTo>
                <a:lnTo>
                  <a:pt x="1400" y="1400"/>
                </a:lnTo>
                <a:close/>
              </a:path>
              <a:path fill="darken" w="22738" h="21600">
                <a:moveTo>
                  <a:pt x="22738" y="0"/>
                </a:moveTo>
                <a:lnTo>
                  <a:pt x="22738" y="21600"/>
                </a:lnTo>
                <a:lnTo>
                  <a:pt x="21338" y="20200"/>
                </a:lnTo>
                <a:lnTo>
                  <a:pt x="21338" y="1400"/>
                </a:lnTo>
                <a:close/>
              </a:path>
              <a:path fill="darkenLess" w="22738" h="21600">
                <a:moveTo>
                  <a:pt x="22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8" y="20200"/>
                </a:lnTo>
                <a:close/>
              </a:path>
              <a:path fill="lighten" w="22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8" h="21600">
                <a:moveTo>
                  <a:pt x="113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8" h="21600">
                <a:moveTo>
                  <a:pt x="12474" y="14281"/>
                </a:moveTo>
                <a:lnTo>
                  <a:pt x="12474" y="12323"/>
                </a:lnTo>
                <a:cubicBezTo>
                  <a:pt x="12474" y="11496"/>
                  <a:pt x="12805" y="10800"/>
                  <a:pt x="13406" y="10800"/>
                </a:cubicBezTo>
                <a:cubicBezTo>
                  <a:pt x="14537" y="10800"/>
                  <a:pt x="15434" y="9434"/>
                  <a:pt x="15434" y="7849"/>
                </a:cubicBezTo>
                <a:cubicBezTo>
                  <a:pt x="15434" y="5534"/>
                  <a:pt x="13580" y="3794"/>
                  <a:pt x="11369" y="3794"/>
                </a:cubicBezTo>
                <a:cubicBezTo>
                  <a:pt x="9158" y="3794"/>
                  <a:pt x="7487" y="5534"/>
                  <a:pt x="7487" y="7849"/>
                </a:cubicBezTo>
                <a:lnTo>
                  <a:pt x="9341" y="7849"/>
                </a:lnTo>
                <a:cubicBezTo>
                  <a:pt x="9341" y="6709"/>
                  <a:pt x="10264" y="5821"/>
                  <a:pt x="11369" y="5821"/>
                </a:cubicBezTo>
                <a:cubicBezTo>
                  <a:pt x="12474" y="5821"/>
                  <a:pt x="13406" y="6709"/>
                  <a:pt x="13406" y="7849"/>
                </a:cubicBezTo>
                <a:cubicBezTo>
                  <a:pt x="13406" y="8589"/>
                  <a:pt x="12936" y="9320"/>
                  <a:pt x="12474" y="9320"/>
                </a:cubicBezTo>
                <a:cubicBezTo>
                  <a:pt x="11369" y="9320"/>
                  <a:pt x="10264" y="10800"/>
                  <a:pt x="10264" y="12323"/>
                </a:cubicBezTo>
                <a:lnTo>
                  <a:pt x="1026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3 polyatomic anions are not oxyan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mmonium, cyanide and hydroxid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>
            <a:hlinkClick r:id="rId1" action="ppaction://hlinksldjump"/>
          </p:cNvPr>
          <p:cNvSpPr/>
          <p:nvPr/>
        </p:nvSpPr>
        <p:spPr>
          <a:xfrm>
            <a:off x="6781680" y="7848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457200" y="82296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57200" y="670572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457200" y="35812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81532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457200" y="52578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457200" y="19810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304812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54864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106678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130302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762120" y="2438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83818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58672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33526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2"/>
          <p:cNvSpPr/>
          <p:nvPr/>
        </p:nvSpPr>
        <p:spPr>
          <a:xfrm>
            <a:off x="108964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3"/>
          <p:cNvSpPr/>
          <p:nvPr/>
        </p:nvSpPr>
        <p:spPr>
          <a:xfrm>
            <a:off x="13258800" y="22860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4"/>
          <p:cNvSpPr/>
          <p:nvPr/>
        </p:nvSpPr>
        <p:spPr>
          <a:xfrm>
            <a:off x="685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5"/>
          <p:cNvSpPr/>
          <p:nvPr/>
        </p:nvSpPr>
        <p:spPr>
          <a:xfrm>
            <a:off x="13258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6"/>
          <p:cNvSpPr/>
          <p:nvPr/>
        </p:nvSpPr>
        <p:spPr>
          <a:xfrm>
            <a:off x="108964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853452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8"/>
          <p:cNvSpPr/>
          <p:nvPr/>
        </p:nvSpPr>
        <p:spPr>
          <a:xfrm>
            <a:off x="58672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9"/>
          <p:cNvSpPr/>
          <p:nvPr/>
        </p:nvSpPr>
        <p:spPr>
          <a:xfrm>
            <a:off x="3352680" y="4114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0"/>
          <p:cNvSpPr/>
          <p:nvPr/>
        </p:nvSpPr>
        <p:spPr>
          <a:xfrm>
            <a:off x="76212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6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1"/>
          <p:cNvSpPr/>
          <p:nvPr/>
        </p:nvSpPr>
        <p:spPr>
          <a:xfrm>
            <a:off x="33526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6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2"/>
          <p:cNvSpPr/>
          <p:nvPr/>
        </p:nvSpPr>
        <p:spPr>
          <a:xfrm>
            <a:off x="58672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6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84582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6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4"/>
          <p:cNvSpPr/>
          <p:nvPr/>
        </p:nvSpPr>
        <p:spPr>
          <a:xfrm>
            <a:off x="10972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6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5"/>
          <p:cNvSpPr/>
          <p:nvPr/>
        </p:nvSpPr>
        <p:spPr>
          <a:xfrm>
            <a:off x="13258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6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6"/>
          <p:cNvSpPr/>
          <p:nvPr/>
        </p:nvSpPr>
        <p:spPr>
          <a:xfrm>
            <a:off x="59436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8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7"/>
          <p:cNvSpPr/>
          <p:nvPr/>
        </p:nvSpPr>
        <p:spPr>
          <a:xfrm>
            <a:off x="8380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8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8"/>
          <p:cNvSpPr/>
          <p:nvPr/>
        </p:nvSpPr>
        <p:spPr>
          <a:xfrm>
            <a:off x="33526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8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9"/>
          <p:cNvSpPr/>
          <p:nvPr/>
        </p:nvSpPr>
        <p:spPr>
          <a:xfrm>
            <a:off x="853452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8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0"/>
          <p:cNvSpPr/>
          <p:nvPr/>
        </p:nvSpPr>
        <p:spPr>
          <a:xfrm>
            <a:off x="10820520" y="70102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8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41"/>
          <p:cNvSpPr/>
          <p:nvPr/>
        </p:nvSpPr>
        <p:spPr>
          <a:xfrm>
            <a:off x="132588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8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2"/>
          <p:cNvSpPr/>
          <p:nvPr/>
        </p:nvSpPr>
        <p:spPr>
          <a:xfrm>
            <a:off x="76212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1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3"/>
          <p:cNvSpPr/>
          <p:nvPr/>
        </p:nvSpPr>
        <p:spPr>
          <a:xfrm>
            <a:off x="108964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4"/>
          <p:cNvSpPr/>
          <p:nvPr/>
        </p:nvSpPr>
        <p:spPr>
          <a:xfrm>
            <a:off x="342900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1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5"/>
          <p:cNvSpPr/>
          <p:nvPr/>
        </p:nvSpPr>
        <p:spPr>
          <a:xfrm>
            <a:off x="58672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1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6"/>
          <p:cNvSpPr/>
          <p:nvPr/>
        </p:nvSpPr>
        <p:spPr>
          <a:xfrm>
            <a:off x="84582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1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7"/>
          <p:cNvSpPr/>
          <p:nvPr/>
        </p:nvSpPr>
        <p:spPr>
          <a:xfrm>
            <a:off x="132588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1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0"/>
          <p:cNvSpPr/>
          <p:nvPr/>
        </p:nvSpPr>
        <p:spPr>
          <a:xfrm>
            <a:off x="7313400" y="966168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Final Jeopard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1"/>
          <p:cNvSpPr/>
          <p:nvPr/>
        </p:nvSpPr>
        <p:spPr>
          <a:xfrm>
            <a:off x="533520" y="4572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omic Scientis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2"/>
          <p:cNvSpPr/>
          <p:nvPr/>
        </p:nvSpPr>
        <p:spPr>
          <a:xfrm>
            <a:off x="3276720" y="4572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5562720" y="457200"/>
            <a:ext cx="22860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omic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4"/>
          <p:cNvSpPr/>
          <p:nvPr/>
        </p:nvSpPr>
        <p:spPr>
          <a:xfrm>
            <a:off x="8229600" y="533520"/>
            <a:ext cx="2438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otop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5"/>
          <p:cNvSpPr/>
          <p:nvPr/>
        </p:nvSpPr>
        <p:spPr>
          <a:xfrm>
            <a:off x="10820520" y="457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odic   Tab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6"/>
          <p:cNvSpPr/>
          <p:nvPr/>
        </p:nvSpPr>
        <p:spPr>
          <a:xfrm>
            <a:off x="12877920" y="533520"/>
            <a:ext cx="26668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Times New Roman"/>
              </a:rPr>
              <a:t>The mouse has led you astray, please pick again!!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4">
            <a:hlinkClick r:id="rId1" action="ppaction://hlinksldjump"/>
          </p:cNvPr>
          <p:cNvSpPr/>
          <p:nvPr/>
        </p:nvSpPr>
        <p:spPr>
          <a:xfrm>
            <a:off x="6858000" y="70866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oh(1)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Scientists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4638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was responsible for determining the mass to charge ratio of an elect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Robert Millika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4">
            <a:hlinkClick r:id="rId1" action="ppaction://hlinksldjump"/>
          </p:cNvPr>
          <p:cNvSpPr/>
          <p:nvPr/>
        </p:nvSpPr>
        <p:spPr>
          <a:xfrm>
            <a:off x="6934320" y="8077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79"/>
          <p:cNvSpPr/>
          <p:nvPr/>
        </p:nvSpPr>
        <p:spPr>
          <a:xfrm>
            <a:off x="457200" y="82296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78"/>
          <p:cNvSpPr/>
          <p:nvPr/>
        </p:nvSpPr>
        <p:spPr>
          <a:xfrm>
            <a:off x="457200" y="670572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82"/>
          <p:cNvSpPr/>
          <p:nvPr/>
        </p:nvSpPr>
        <p:spPr>
          <a:xfrm>
            <a:off x="457200" y="35812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86"/>
          <p:cNvSpPr/>
          <p:nvPr/>
        </p:nvSpPr>
        <p:spPr>
          <a:xfrm>
            <a:off x="81532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98520" y="693720"/>
            <a:ext cx="2666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ond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562720" y="738360"/>
            <a:ext cx="2286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t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8229600" y="533520"/>
            <a:ext cx="243828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aracteristics of Ionic compoun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2839760" y="744480"/>
            <a:ext cx="2666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scellaneou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7"/>
          <p:cNvSpPr/>
          <p:nvPr/>
        </p:nvSpPr>
        <p:spPr>
          <a:xfrm>
            <a:off x="457200" y="52578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8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1"/>
          <p:cNvSpPr/>
          <p:nvPr/>
        </p:nvSpPr>
        <p:spPr>
          <a:xfrm>
            <a:off x="457200" y="19810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3"/>
          <p:cNvSpPr/>
          <p:nvPr/>
        </p:nvSpPr>
        <p:spPr>
          <a:xfrm>
            <a:off x="304812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4"/>
          <p:cNvSpPr/>
          <p:nvPr/>
        </p:nvSpPr>
        <p:spPr>
          <a:xfrm>
            <a:off x="54864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7"/>
          <p:cNvSpPr/>
          <p:nvPr/>
        </p:nvSpPr>
        <p:spPr>
          <a:xfrm>
            <a:off x="106678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88"/>
          <p:cNvSpPr/>
          <p:nvPr/>
        </p:nvSpPr>
        <p:spPr>
          <a:xfrm>
            <a:off x="130302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9"/>
          <p:cNvSpPr/>
          <p:nvPr/>
        </p:nvSpPr>
        <p:spPr>
          <a:xfrm>
            <a:off x="762120" y="2438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0"/>
          <p:cNvSpPr/>
          <p:nvPr/>
        </p:nvSpPr>
        <p:spPr>
          <a:xfrm>
            <a:off x="83818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1"/>
          <p:cNvSpPr/>
          <p:nvPr/>
        </p:nvSpPr>
        <p:spPr>
          <a:xfrm>
            <a:off x="58672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2"/>
          <p:cNvSpPr/>
          <p:nvPr/>
        </p:nvSpPr>
        <p:spPr>
          <a:xfrm>
            <a:off x="33526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3"/>
          <p:cNvSpPr/>
          <p:nvPr/>
        </p:nvSpPr>
        <p:spPr>
          <a:xfrm>
            <a:off x="108964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4"/>
          <p:cNvSpPr/>
          <p:nvPr/>
        </p:nvSpPr>
        <p:spPr>
          <a:xfrm>
            <a:off x="13258800" y="22860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5"/>
          <p:cNvSpPr/>
          <p:nvPr/>
        </p:nvSpPr>
        <p:spPr>
          <a:xfrm>
            <a:off x="685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6"/>
          <p:cNvSpPr/>
          <p:nvPr/>
        </p:nvSpPr>
        <p:spPr>
          <a:xfrm>
            <a:off x="13258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7"/>
          <p:cNvSpPr/>
          <p:nvPr/>
        </p:nvSpPr>
        <p:spPr>
          <a:xfrm>
            <a:off x="108964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8"/>
          <p:cNvSpPr/>
          <p:nvPr/>
        </p:nvSpPr>
        <p:spPr>
          <a:xfrm>
            <a:off x="853452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9"/>
          <p:cNvSpPr/>
          <p:nvPr/>
        </p:nvSpPr>
        <p:spPr>
          <a:xfrm>
            <a:off x="58672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0"/>
          <p:cNvSpPr/>
          <p:nvPr/>
        </p:nvSpPr>
        <p:spPr>
          <a:xfrm>
            <a:off x="3352680" y="4114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1"/>
          <p:cNvSpPr/>
          <p:nvPr/>
        </p:nvSpPr>
        <p:spPr>
          <a:xfrm>
            <a:off x="76212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2"/>
          <p:cNvSpPr/>
          <p:nvPr/>
        </p:nvSpPr>
        <p:spPr>
          <a:xfrm>
            <a:off x="33526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3">
            <a:hlinkClick r:id="rId15" action="ppaction://hlinksldjump"/>
          </p:cNvPr>
          <p:cNvSpPr/>
          <p:nvPr/>
        </p:nvSpPr>
        <p:spPr>
          <a:xfrm>
            <a:off x="58672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4"/>
          <p:cNvSpPr/>
          <p:nvPr/>
        </p:nvSpPr>
        <p:spPr>
          <a:xfrm>
            <a:off x="84582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5"/>
          <p:cNvSpPr/>
          <p:nvPr/>
        </p:nvSpPr>
        <p:spPr>
          <a:xfrm>
            <a:off x="10972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06"/>
          <p:cNvSpPr/>
          <p:nvPr/>
        </p:nvSpPr>
        <p:spPr>
          <a:xfrm>
            <a:off x="13258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8"/>
          <p:cNvSpPr/>
          <p:nvPr/>
        </p:nvSpPr>
        <p:spPr>
          <a:xfrm>
            <a:off x="8380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33526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853452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10820520" y="70102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132588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13"/>
          <p:cNvSpPr/>
          <p:nvPr/>
        </p:nvSpPr>
        <p:spPr>
          <a:xfrm>
            <a:off x="76212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14"/>
          <p:cNvSpPr/>
          <p:nvPr/>
        </p:nvSpPr>
        <p:spPr>
          <a:xfrm>
            <a:off x="108964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15"/>
          <p:cNvSpPr/>
          <p:nvPr/>
        </p:nvSpPr>
        <p:spPr>
          <a:xfrm>
            <a:off x="342900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16">
            <a:hlinkClick r:id="rId28" action="ppaction://hlinksldjump"/>
          </p:cNvPr>
          <p:cNvSpPr/>
          <p:nvPr/>
        </p:nvSpPr>
        <p:spPr>
          <a:xfrm>
            <a:off x="58672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7"/>
          <p:cNvSpPr/>
          <p:nvPr/>
        </p:nvSpPr>
        <p:spPr>
          <a:xfrm>
            <a:off x="84582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8"/>
          <p:cNvSpPr/>
          <p:nvPr/>
        </p:nvSpPr>
        <p:spPr>
          <a:xfrm>
            <a:off x="132588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0"/>
          <p:cNvSpPr/>
          <p:nvPr/>
        </p:nvSpPr>
        <p:spPr>
          <a:xfrm>
            <a:off x="10972800" y="8334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mpoun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1"/>
          <p:cNvSpPr/>
          <p:nvPr/>
        </p:nvSpPr>
        <p:spPr>
          <a:xfrm>
            <a:off x="6687720" y="976788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Double Jeopard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2"/>
          <p:cNvSpPr/>
          <p:nvPr/>
        </p:nvSpPr>
        <p:spPr>
          <a:xfrm>
            <a:off x="3652920" y="7142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4"/>
          <p:cNvSpPr/>
          <p:nvPr/>
        </p:nvSpPr>
        <p:spPr>
          <a:xfrm>
            <a:off x="5791320" y="716292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oardfi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Scientists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According to John Dalton, Which atoms are identica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toms of the same ele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4">
            <a:hlinkClick r:id="rId1" action="ppaction://hlinksldjump"/>
          </p:cNvPr>
          <p:cNvSpPr/>
          <p:nvPr/>
        </p:nvSpPr>
        <p:spPr>
          <a:xfrm>
            <a:off x="6477120" y="8077320"/>
            <a:ext cx="2819160" cy="1981080"/>
          </a:xfrm>
          <a:custGeom>
            <a:avLst/>
            <a:gdLst>
              <a:gd name="textAreaLeft" fmla="*/ 128160 w 2819160"/>
              <a:gd name="textAreaRight" fmla="*/ 2691000 w 281916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0736" h="21600">
                <a:moveTo>
                  <a:pt x="0" y="0"/>
                </a:moveTo>
                <a:lnTo>
                  <a:pt x="30736" y="0"/>
                </a:lnTo>
                <a:lnTo>
                  <a:pt x="30736" y="21600"/>
                </a:lnTo>
                <a:lnTo>
                  <a:pt x="0" y="21600"/>
                </a:lnTo>
                <a:close/>
              </a:path>
              <a:path fill="lightenLess" w="30736" h="21600">
                <a:moveTo>
                  <a:pt x="0" y="0"/>
                </a:moveTo>
                <a:lnTo>
                  <a:pt x="30736" y="0"/>
                </a:lnTo>
                <a:lnTo>
                  <a:pt x="29336" y="1400"/>
                </a:lnTo>
                <a:lnTo>
                  <a:pt x="1400" y="1400"/>
                </a:lnTo>
                <a:close/>
              </a:path>
              <a:path fill="darken" w="30736" h="21600">
                <a:moveTo>
                  <a:pt x="30736" y="0"/>
                </a:moveTo>
                <a:lnTo>
                  <a:pt x="30736" y="21600"/>
                </a:lnTo>
                <a:lnTo>
                  <a:pt x="29336" y="20200"/>
                </a:lnTo>
                <a:lnTo>
                  <a:pt x="29336" y="1400"/>
                </a:lnTo>
                <a:close/>
              </a:path>
              <a:path fill="darkenLess" w="30736" h="21600">
                <a:moveTo>
                  <a:pt x="30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6" y="20200"/>
                </a:lnTo>
                <a:close/>
              </a:path>
              <a:path fill="lighten" w="30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6" h="21600">
                <a:moveTo>
                  <a:pt x="153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736" h="21600">
                <a:moveTo>
                  <a:pt x="16473" y="14281"/>
                </a:moveTo>
                <a:lnTo>
                  <a:pt x="16473" y="12323"/>
                </a:lnTo>
                <a:cubicBezTo>
                  <a:pt x="16473" y="11496"/>
                  <a:pt x="16804" y="10800"/>
                  <a:pt x="17405" y="10800"/>
                </a:cubicBezTo>
                <a:cubicBezTo>
                  <a:pt x="18536" y="10800"/>
                  <a:pt x="19433" y="9434"/>
                  <a:pt x="19433" y="7849"/>
                </a:cubicBezTo>
                <a:cubicBezTo>
                  <a:pt x="19433" y="5534"/>
                  <a:pt x="17579" y="3794"/>
                  <a:pt x="15368" y="3794"/>
                </a:cubicBezTo>
                <a:cubicBezTo>
                  <a:pt x="13157" y="3794"/>
                  <a:pt x="11486" y="5534"/>
                  <a:pt x="11486" y="7849"/>
                </a:cubicBezTo>
                <a:lnTo>
                  <a:pt x="13340" y="7849"/>
                </a:lnTo>
                <a:cubicBezTo>
                  <a:pt x="13340" y="6709"/>
                  <a:pt x="14263" y="5821"/>
                  <a:pt x="15368" y="5821"/>
                </a:cubicBezTo>
                <a:cubicBezTo>
                  <a:pt x="16473" y="5821"/>
                  <a:pt x="17405" y="6709"/>
                  <a:pt x="17405" y="7849"/>
                </a:cubicBezTo>
                <a:cubicBezTo>
                  <a:pt x="17405" y="8589"/>
                  <a:pt x="16935" y="9320"/>
                  <a:pt x="16473" y="9320"/>
                </a:cubicBezTo>
                <a:cubicBezTo>
                  <a:pt x="15368" y="9320"/>
                  <a:pt x="14263" y="10800"/>
                  <a:pt x="14263" y="12323"/>
                </a:cubicBezTo>
                <a:lnTo>
                  <a:pt x="1426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Scientists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first proposed that all matter consisted of atom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Democrit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4">
            <a:hlinkClick r:id="rId1" action="ppaction://hlinksldjump"/>
          </p:cNvPr>
          <p:cNvSpPr/>
          <p:nvPr/>
        </p:nvSpPr>
        <p:spPr>
          <a:xfrm>
            <a:off x="6858000" y="8001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Scientists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was responsible for describing the true organization of particles in the ato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rnest Rutherfor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Scientists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did Millikan determine the mass of the elect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By knowing the density of oil and measuring the volume of the oil atom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6553080" y="777240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19" h="21600">
                <a:moveTo>
                  <a:pt x="142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19" h="21600">
                <a:moveTo>
                  <a:pt x="15315" y="14281"/>
                </a:moveTo>
                <a:lnTo>
                  <a:pt x="15315" y="12323"/>
                </a:lnTo>
                <a:cubicBezTo>
                  <a:pt x="15315" y="11496"/>
                  <a:pt x="15646" y="10800"/>
                  <a:pt x="16246" y="10800"/>
                </a:cubicBezTo>
                <a:cubicBezTo>
                  <a:pt x="17378" y="10800"/>
                  <a:pt x="18274" y="9434"/>
                  <a:pt x="18274" y="7849"/>
                </a:cubicBezTo>
                <a:cubicBezTo>
                  <a:pt x="18274" y="5534"/>
                  <a:pt x="16420" y="3794"/>
                  <a:pt x="14209" y="3794"/>
                </a:cubicBezTo>
                <a:cubicBezTo>
                  <a:pt x="11999" y="3794"/>
                  <a:pt x="10328" y="5534"/>
                  <a:pt x="10328" y="7849"/>
                </a:cubicBezTo>
                <a:lnTo>
                  <a:pt x="12181" y="7849"/>
                </a:lnTo>
                <a:cubicBezTo>
                  <a:pt x="12181" y="6709"/>
                  <a:pt x="13104" y="5821"/>
                  <a:pt x="14209" y="5821"/>
                </a:cubicBezTo>
                <a:cubicBezTo>
                  <a:pt x="15315" y="5821"/>
                  <a:pt x="16246" y="6709"/>
                  <a:pt x="16246" y="7849"/>
                </a:cubicBezTo>
                <a:cubicBezTo>
                  <a:pt x="16246" y="8589"/>
                  <a:pt x="15776" y="9320"/>
                  <a:pt x="15315" y="9320"/>
                </a:cubicBezTo>
                <a:cubicBezTo>
                  <a:pt x="14209" y="9320"/>
                  <a:pt x="13104" y="10800"/>
                  <a:pt x="13104" y="12323"/>
                </a:cubicBezTo>
                <a:lnTo>
                  <a:pt x="1310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Atomic Structure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ich subatomic particle is used as a reference standard for relative mas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prot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7086600" y="71629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Atomic Structure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relative mass of an elect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1/184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2877920" y="533520"/>
            <a:ext cx="26668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Atomic Structure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would occur if two electrons were brought together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y would repel one anoth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6781680" y="7315200"/>
            <a:ext cx="1752840" cy="1676520"/>
          </a:xfrm>
          <a:custGeom>
            <a:avLst/>
            <a:gdLst>
              <a:gd name="textAreaLeft" fmla="*/ 108360 w 1752840"/>
              <a:gd name="textAreaRight" fmla="*/ 1644480 w 17528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2583" h="21600">
                <a:moveTo>
                  <a:pt x="0" y="0"/>
                </a:moveTo>
                <a:lnTo>
                  <a:pt x="22583" y="0"/>
                </a:lnTo>
                <a:lnTo>
                  <a:pt x="22583" y="21600"/>
                </a:lnTo>
                <a:lnTo>
                  <a:pt x="0" y="21600"/>
                </a:lnTo>
                <a:close/>
              </a:path>
              <a:path fill="lightenLess" w="22583" h="21600">
                <a:moveTo>
                  <a:pt x="0" y="0"/>
                </a:moveTo>
                <a:lnTo>
                  <a:pt x="22583" y="0"/>
                </a:lnTo>
                <a:lnTo>
                  <a:pt x="21183" y="1400"/>
                </a:lnTo>
                <a:lnTo>
                  <a:pt x="1400" y="1400"/>
                </a:lnTo>
                <a:close/>
              </a:path>
              <a:path fill="darken" w="22583" h="21600">
                <a:moveTo>
                  <a:pt x="22583" y="0"/>
                </a:moveTo>
                <a:lnTo>
                  <a:pt x="22583" y="21600"/>
                </a:lnTo>
                <a:lnTo>
                  <a:pt x="21183" y="20200"/>
                </a:lnTo>
                <a:lnTo>
                  <a:pt x="21183" y="1400"/>
                </a:lnTo>
                <a:close/>
              </a:path>
              <a:path fill="darkenLess" w="22583" h="21600">
                <a:moveTo>
                  <a:pt x="22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" y="20200"/>
                </a:lnTo>
                <a:close/>
              </a:path>
              <a:path fill="lighten" w="22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3" h="21600">
                <a:moveTo>
                  <a:pt x="112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583" h="21600">
                <a:moveTo>
                  <a:pt x="12397" y="14281"/>
                </a:moveTo>
                <a:lnTo>
                  <a:pt x="12397" y="12323"/>
                </a:lnTo>
                <a:cubicBezTo>
                  <a:pt x="12397" y="11496"/>
                  <a:pt x="12728" y="10800"/>
                  <a:pt x="13328" y="10800"/>
                </a:cubicBezTo>
                <a:cubicBezTo>
                  <a:pt x="14460" y="10800"/>
                  <a:pt x="15356" y="9434"/>
                  <a:pt x="15356" y="7849"/>
                </a:cubicBezTo>
                <a:cubicBezTo>
                  <a:pt x="15356" y="5534"/>
                  <a:pt x="13502" y="3794"/>
                  <a:pt x="11292" y="3794"/>
                </a:cubicBezTo>
                <a:cubicBezTo>
                  <a:pt x="9081" y="3794"/>
                  <a:pt x="7410" y="5534"/>
                  <a:pt x="7410" y="7849"/>
                </a:cubicBezTo>
                <a:lnTo>
                  <a:pt x="9264" y="7849"/>
                </a:lnTo>
                <a:cubicBezTo>
                  <a:pt x="9264" y="6709"/>
                  <a:pt x="10186" y="5821"/>
                  <a:pt x="11292" y="5821"/>
                </a:cubicBezTo>
                <a:cubicBezTo>
                  <a:pt x="12397" y="5821"/>
                  <a:pt x="13328" y="6709"/>
                  <a:pt x="13328" y="7849"/>
                </a:cubicBezTo>
                <a:cubicBezTo>
                  <a:pt x="13328" y="8589"/>
                  <a:pt x="12858" y="9320"/>
                  <a:pt x="12397" y="9320"/>
                </a:cubicBezTo>
                <a:cubicBezTo>
                  <a:pt x="11292" y="9320"/>
                  <a:pt x="10186" y="10800"/>
                  <a:pt x="10186" y="12323"/>
                </a:cubicBezTo>
                <a:lnTo>
                  <a:pt x="1018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Atomic Structure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does a change in the number of electrons in an atom give rise to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7315200" y="73152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Atomic Structure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was the source of electrons used in Millikan’s experi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X ray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6629400" y="7391520"/>
            <a:ext cx="1600200" cy="167616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76160"/>
              <a:gd name="textAreaBottom" fmla="*/ 1572480 h 1676160"/>
            </a:gdLst>
            <a:ahLst/>
            <a:rect l="textAreaLeft" t="textAreaTop" r="textAreaRight" b="textAreaBottom"/>
            <a:pathLst>
              <a:path w="21600" h="22625">
                <a:moveTo>
                  <a:pt x="0" y="0"/>
                </a:moveTo>
                <a:lnTo>
                  <a:pt x="21600" y="0"/>
                </a:lnTo>
                <a:lnTo>
                  <a:pt x="21600" y="22625"/>
                </a:lnTo>
                <a:lnTo>
                  <a:pt x="0" y="22625"/>
                </a:lnTo>
                <a:close/>
              </a:path>
              <a:path fill="lightenLess" w="21600" h="22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5">
                <a:moveTo>
                  <a:pt x="21600" y="0"/>
                </a:moveTo>
                <a:lnTo>
                  <a:pt x="21600" y="22625"/>
                </a:lnTo>
                <a:lnTo>
                  <a:pt x="20200" y="21225"/>
                </a:lnTo>
                <a:lnTo>
                  <a:pt x="20200" y="1400"/>
                </a:lnTo>
                <a:close/>
              </a:path>
              <a:path fill="darkenLess" w="21600" h="22625">
                <a:moveTo>
                  <a:pt x="21600" y="22625"/>
                </a:moveTo>
                <a:lnTo>
                  <a:pt x="0" y="22625"/>
                </a:lnTo>
                <a:lnTo>
                  <a:pt x="1400" y="21225"/>
                </a:lnTo>
                <a:lnTo>
                  <a:pt x="20200" y="21225"/>
                </a:lnTo>
                <a:close/>
              </a:path>
              <a:path fill="lighten" w="21600" h="22625">
                <a:moveTo>
                  <a:pt x="0" y="22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5"/>
                </a:lnTo>
                <a:close/>
              </a:path>
              <a:path fill="darken" w="21600" h="22625">
                <a:moveTo>
                  <a:pt x="10800" y="1531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25">
                <a:moveTo>
                  <a:pt x="11905" y="14794"/>
                </a:moveTo>
                <a:lnTo>
                  <a:pt x="11905" y="12836"/>
                </a:lnTo>
                <a:cubicBezTo>
                  <a:pt x="11905" y="12009"/>
                  <a:pt x="12236" y="11313"/>
                  <a:pt x="12837" y="11313"/>
                </a:cubicBezTo>
                <a:cubicBezTo>
                  <a:pt x="13968" y="11313"/>
                  <a:pt x="14865" y="9946"/>
                  <a:pt x="14865" y="8362"/>
                </a:cubicBezTo>
                <a:cubicBezTo>
                  <a:pt x="14865" y="6047"/>
                  <a:pt x="13011" y="4306"/>
                  <a:pt x="10800" y="4306"/>
                </a:cubicBezTo>
                <a:cubicBezTo>
                  <a:pt x="8589" y="4306"/>
                  <a:pt x="6918" y="6047"/>
                  <a:pt x="6918" y="8362"/>
                </a:cubicBezTo>
                <a:lnTo>
                  <a:pt x="8772" y="8362"/>
                </a:lnTo>
                <a:cubicBezTo>
                  <a:pt x="8772" y="7222"/>
                  <a:pt x="9695" y="6334"/>
                  <a:pt x="10800" y="6334"/>
                </a:cubicBezTo>
                <a:cubicBezTo>
                  <a:pt x="11905" y="6334"/>
                  <a:pt x="12837" y="7222"/>
                  <a:pt x="12837" y="8362"/>
                </a:cubicBezTo>
                <a:cubicBezTo>
                  <a:pt x="12837" y="9102"/>
                  <a:pt x="12367" y="9833"/>
                  <a:pt x="11905" y="9833"/>
                </a:cubicBezTo>
                <a:cubicBezTo>
                  <a:pt x="10800" y="9833"/>
                  <a:pt x="9695" y="11313"/>
                  <a:pt x="9695" y="12836"/>
                </a:cubicBezTo>
                <a:lnTo>
                  <a:pt x="9695" y="1479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Variables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From what is atomic mass deriv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weighted average mass of all atoms that naturally occur in a sam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086600" y="73915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Times New Roman"/>
              </a:rPr>
              <a:t>The mouse has led you astray, please pick again!!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6400800" y="70866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oh(1)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Variables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many neutrons are in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0">
              <a:spcBef>
                <a:spcPts val="165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Cl-35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1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6934320" y="7238880"/>
            <a:ext cx="1676160" cy="1447920"/>
          </a:xfrm>
          <a:custGeom>
            <a:avLst/>
            <a:gdLst>
              <a:gd name="textAreaLeft" fmla="*/ 93600 w 1676160"/>
              <a:gd name="textAreaRight" fmla="*/ 1582560 w 16761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4" h="21600">
                <a:moveTo>
                  <a:pt x="0" y="0"/>
                </a:moveTo>
                <a:lnTo>
                  <a:pt x="25004" y="0"/>
                </a:lnTo>
                <a:lnTo>
                  <a:pt x="25004" y="21600"/>
                </a:lnTo>
                <a:lnTo>
                  <a:pt x="0" y="21600"/>
                </a:lnTo>
                <a:close/>
              </a:path>
              <a:path fill="lightenLess" w="25004" h="21600">
                <a:moveTo>
                  <a:pt x="0" y="0"/>
                </a:moveTo>
                <a:lnTo>
                  <a:pt x="25004" y="0"/>
                </a:lnTo>
                <a:lnTo>
                  <a:pt x="23604" y="1400"/>
                </a:lnTo>
                <a:lnTo>
                  <a:pt x="1400" y="1400"/>
                </a:lnTo>
                <a:close/>
              </a:path>
              <a:path fill="darken" w="25004" h="21600">
                <a:moveTo>
                  <a:pt x="25004" y="0"/>
                </a:moveTo>
                <a:lnTo>
                  <a:pt x="25004" y="21600"/>
                </a:lnTo>
                <a:lnTo>
                  <a:pt x="23604" y="20200"/>
                </a:lnTo>
                <a:lnTo>
                  <a:pt x="23604" y="1400"/>
                </a:lnTo>
                <a:close/>
              </a:path>
              <a:path fill="darkenLess" w="25004" h="21600">
                <a:moveTo>
                  <a:pt x="25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4" y="20200"/>
                </a:lnTo>
                <a:close/>
              </a:path>
              <a:path fill="lighten" w="25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4" h="21600">
                <a:moveTo>
                  <a:pt x="1250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04" h="21600">
                <a:moveTo>
                  <a:pt x="13607" y="14281"/>
                </a:moveTo>
                <a:lnTo>
                  <a:pt x="13607" y="12323"/>
                </a:lnTo>
                <a:cubicBezTo>
                  <a:pt x="13607" y="11496"/>
                  <a:pt x="13938" y="10800"/>
                  <a:pt x="14539" y="10800"/>
                </a:cubicBezTo>
                <a:cubicBezTo>
                  <a:pt x="15670" y="10800"/>
                  <a:pt x="16567" y="9434"/>
                  <a:pt x="16567" y="7849"/>
                </a:cubicBezTo>
                <a:cubicBezTo>
                  <a:pt x="16567" y="5534"/>
                  <a:pt x="14713" y="3794"/>
                  <a:pt x="12502" y="3794"/>
                </a:cubicBezTo>
                <a:cubicBezTo>
                  <a:pt x="10291" y="3794"/>
                  <a:pt x="8620" y="5534"/>
                  <a:pt x="8620" y="7849"/>
                </a:cubicBezTo>
                <a:lnTo>
                  <a:pt x="10474" y="7849"/>
                </a:lnTo>
                <a:cubicBezTo>
                  <a:pt x="10474" y="6709"/>
                  <a:pt x="11397" y="5821"/>
                  <a:pt x="12502" y="5821"/>
                </a:cubicBezTo>
                <a:cubicBezTo>
                  <a:pt x="13607" y="5821"/>
                  <a:pt x="14539" y="6709"/>
                  <a:pt x="14539" y="7849"/>
                </a:cubicBezTo>
                <a:cubicBezTo>
                  <a:pt x="14539" y="8589"/>
                  <a:pt x="14069" y="9320"/>
                  <a:pt x="13607" y="9320"/>
                </a:cubicBezTo>
                <a:cubicBezTo>
                  <a:pt x="12502" y="9320"/>
                  <a:pt x="11397" y="10800"/>
                  <a:pt x="11397" y="12323"/>
                </a:cubicBezTo>
                <a:lnTo>
                  <a:pt x="1139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Variables for 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atomic number of the atom that has a mass number or 15 and 8 neutr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7238880" y="7162920"/>
            <a:ext cx="1524240" cy="1523880"/>
          </a:xfrm>
          <a:custGeom>
            <a:avLst/>
            <a:gdLst>
              <a:gd name="textAreaLeft" fmla="*/ 98640 w 1524240"/>
              <a:gd name="textAreaRight" fmla="*/ 1425600 w 152424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5" h="21600">
                <a:moveTo>
                  <a:pt x="108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5" h="21600">
                <a:moveTo>
                  <a:pt x="11908" y="14281"/>
                </a:moveTo>
                <a:lnTo>
                  <a:pt x="11908" y="12323"/>
                </a:lnTo>
                <a:cubicBezTo>
                  <a:pt x="11908" y="11496"/>
                  <a:pt x="12239" y="10800"/>
                  <a:pt x="12839" y="10800"/>
                </a:cubicBezTo>
                <a:cubicBezTo>
                  <a:pt x="13971" y="10800"/>
                  <a:pt x="14867" y="9434"/>
                  <a:pt x="14867" y="7849"/>
                </a:cubicBezTo>
                <a:cubicBezTo>
                  <a:pt x="14867" y="5534"/>
                  <a:pt x="13013" y="3794"/>
                  <a:pt x="10803" y="3794"/>
                </a:cubicBezTo>
                <a:cubicBezTo>
                  <a:pt x="8592" y="3794"/>
                  <a:pt x="6921" y="5534"/>
                  <a:pt x="6921" y="7849"/>
                </a:cubicBezTo>
                <a:lnTo>
                  <a:pt x="8775" y="7849"/>
                </a:lnTo>
                <a:cubicBezTo>
                  <a:pt x="8775" y="6709"/>
                  <a:pt x="9697" y="5821"/>
                  <a:pt x="10803" y="5821"/>
                </a:cubicBezTo>
                <a:cubicBezTo>
                  <a:pt x="11908" y="5821"/>
                  <a:pt x="12839" y="6709"/>
                  <a:pt x="12839" y="7849"/>
                </a:cubicBezTo>
                <a:cubicBezTo>
                  <a:pt x="12839" y="8589"/>
                  <a:pt x="12369" y="9320"/>
                  <a:pt x="11908" y="9320"/>
                </a:cubicBezTo>
                <a:cubicBezTo>
                  <a:pt x="10803" y="9320"/>
                  <a:pt x="9697" y="10800"/>
                  <a:pt x="9697" y="12323"/>
                </a:cubicBezTo>
                <a:lnTo>
                  <a:pt x="969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Variables for 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does amu stand fo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tomic Mass Uni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7162920" y="6781680"/>
            <a:ext cx="1676160" cy="1371600"/>
          </a:xfrm>
          <a:custGeom>
            <a:avLst/>
            <a:gdLst>
              <a:gd name="textAreaLeft" fmla="*/ 88920 w 1676160"/>
              <a:gd name="textAreaRight" fmla="*/ 1587240 w 16761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5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5" h="21600">
                <a:moveTo>
                  <a:pt x="14303" y="14281"/>
                </a:moveTo>
                <a:lnTo>
                  <a:pt x="14303" y="12323"/>
                </a:lnTo>
                <a:cubicBezTo>
                  <a:pt x="14303" y="11496"/>
                  <a:pt x="14634" y="10800"/>
                  <a:pt x="15234" y="10800"/>
                </a:cubicBezTo>
                <a:cubicBezTo>
                  <a:pt x="16366" y="10800"/>
                  <a:pt x="17262" y="9434"/>
                  <a:pt x="17262" y="7849"/>
                </a:cubicBezTo>
                <a:cubicBezTo>
                  <a:pt x="17262" y="5534"/>
                  <a:pt x="15408" y="3794"/>
                  <a:pt x="13197" y="3794"/>
                </a:cubicBezTo>
                <a:cubicBezTo>
                  <a:pt x="10987" y="3794"/>
                  <a:pt x="9316" y="5534"/>
                  <a:pt x="9316" y="7849"/>
                </a:cubicBezTo>
                <a:lnTo>
                  <a:pt x="11170" y="7849"/>
                </a:lnTo>
                <a:cubicBezTo>
                  <a:pt x="11170" y="6709"/>
                  <a:pt x="12092" y="5821"/>
                  <a:pt x="13197" y="5821"/>
                </a:cubicBezTo>
                <a:cubicBezTo>
                  <a:pt x="14303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3" y="9320"/>
                </a:cubicBezTo>
                <a:cubicBezTo>
                  <a:pt x="13197" y="9320"/>
                  <a:pt x="12092" y="10800"/>
                  <a:pt x="12092" y="12323"/>
                </a:cubicBezTo>
                <a:lnTo>
                  <a:pt x="12092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Variables for 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otope of Carbon is the atomic mass unit based up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C-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7162920" y="754380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148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5">
                <a:moveTo>
                  <a:pt x="11905" y="14284"/>
                </a:moveTo>
                <a:lnTo>
                  <a:pt x="11905" y="12326"/>
                </a:lnTo>
                <a:cubicBezTo>
                  <a:pt x="11905" y="11499"/>
                  <a:pt x="12236" y="10803"/>
                  <a:pt x="12837" y="10803"/>
                </a:cubicBezTo>
                <a:cubicBezTo>
                  <a:pt x="13968" y="10803"/>
                  <a:pt x="14865" y="9436"/>
                  <a:pt x="14865" y="7852"/>
                </a:cubicBezTo>
                <a:cubicBezTo>
                  <a:pt x="14865" y="5537"/>
                  <a:pt x="13011" y="3796"/>
                  <a:pt x="10800" y="3796"/>
                </a:cubicBezTo>
                <a:cubicBezTo>
                  <a:pt x="8589" y="3796"/>
                  <a:pt x="6918" y="5537"/>
                  <a:pt x="6918" y="7852"/>
                </a:cubicBezTo>
                <a:lnTo>
                  <a:pt x="8772" y="7852"/>
                </a:lnTo>
                <a:cubicBezTo>
                  <a:pt x="8772" y="6712"/>
                  <a:pt x="9695" y="5824"/>
                  <a:pt x="10800" y="5824"/>
                </a:cubicBezTo>
                <a:cubicBezTo>
                  <a:pt x="11905" y="5824"/>
                  <a:pt x="12837" y="6712"/>
                  <a:pt x="12837" y="7852"/>
                </a:cubicBezTo>
                <a:cubicBezTo>
                  <a:pt x="12837" y="8592"/>
                  <a:pt x="12367" y="9323"/>
                  <a:pt x="11905" y="9323"/>
                </a:cubicBezTo>
                <a:cubicBezTo>
                  <a:pt x="10800" y="9323"/>
                  <a:pt x="9695" y="10803"/>
                  <a:pt x="9695" y="12326"/>
                </a:cubicBezTo>
                <a:lnTo>
                  <a:pt x="9695" y="1428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sotopes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otope is used to determine the age of carbon based material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-1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7010280" y="7162920"/>
            <a:ext cx="1524240" cy="121896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7008" h="21600">
                <a:moveTo>
                  <a:pt x="0" y="0"/>
                </a:moveTo>
                <a:lnTo>
                  <a:pt x="27008" y="0"/>
                </a:lnTo>
                <a:lnTo>
                  <a:pt x="27008" y="21600"/>
                </a:lnTo>
                <a:lnTo>
                  <a:pt x="0" y="21600"/>
                </a:lnTo>
                <a:close/>
              </a:path>
              <a:path fill="lightenLess" w="27008" h="21600">
                <a:moveTo>
                  <a:pt x="0" y="0"/>
                </a:moveTo>
                <a:lnTo>
                  <a:pt x="27008" y="0"/>
                </a:lnTo>
                <a:lnTo>
                  <a:pt x="25608" y="1400"/>
                </a:lnTo>
                <a:lnTo>
                  <a:pt x="1400" y="1400"/>
                </a:lnTo>
                <a:close/>
              </a:path>
              <a:path fill="darken" w="27008" h="21600">
                <a:moveTo>
                  <a:pt x="27008" y="0"/>
                </a:moveTo>
                <a:lnTo>
                  <a:pt x="27008" y="21600"/>
                </a:lnTo>
                <a:lnTo>
                  <a:pt x="25608" y="20200"/>
                </a:lnTo>
                <a:lnTo>
                  <a:pt x="25608" y="1400"/>
                </a:lnTo>
                <a:close/>
              </a:path>
              <a:path fill="darkenLess" w="27008" h="21600">
                <a:moveTo>
                  <a:pt x="27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8" y="20200"/>
                </a:lnTo>
                <a:close/>
              </a:path>
              <a:path fill="lighten" w="27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8" h="21600">
                <a:moveTo>
                  <a:pt x="135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8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40" y="10800"/>
                  <a:pt x="15541" y="10800"/>
                </a:cubicBezTo>
                <a:cubicBezTo>
                  <a:pt x="16672" y="10800"/>
                  <a:pt x="17569" y="9434"/>
                  <a:pt x="17569" y="7849"/>
                </a:cubicBezTo>
                <a:cubicBezTo>
                  <a:pt x="17569" y="5534"/>
                  <a:pt x="15715" y="3794"/>
                  <a:pt x="13504" y="3794"/>
                </a:cubicBezTo>
                <a:cubicBezTo>
                  <a:pt x="11293" y="3794"/>
                  <a:pt x="9622" y="5534"/>
                  <a:pt x="9622" y="7849"/>
                </a:cubicBezTo>
                <a:lnTo>
                  <a:pt x="11476" y="7849"/>
                </a:lnTo>
                <a:cubicBezTo>
                  <a:pt x="11476" y="6709"/>
                  <a:pt x="12399" y="5821"/>
                  <a:pt x="13504" y="5821"/>
                </a:cubicBezTo>
                <a:cubicBezTo>
                  <a:pt x="14609" y="5821"/>
                  <a:pt x="15541" y="6709"/>
                  <a:pt x="15541" y="7849"/>
                </a:cubicBezTo>
                <a:cubicBezTo>
                  <a:pt x="15541" y="8589"/>
                  <a:pt x="15071" y="9320"/>
                  <a:pt x="14609" y="9320"/>
                </a:cubicBezTo>
                <a:cubicBezTo>
                  <a:pt x="13504" y="9320"/>
                  <a:pt x="12399" y="10800"/>
                  <a:pt x="12399" y="12323"/>
                </a:cubicBezTo>
                <a:lnTo>
                  <a:pt x="12399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sotopes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isotope is more abundant?  F-19 or F-22 given an atomic mass of 20.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-1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67057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sotopes for 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of the following isotopes is least likely an isotope of Hydrogen?  H-1, H-3, H-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H-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7315200" y="73915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119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7" h="21600">
                <a:moveTo>
                  <a:pt x="13104" y="14281"/>
                </a:moveTo>
                <a:lnTo>
                  <a:pt x="13104" y="12323"/>
                </a:lnTo>
                <a:cubicBezTo>
                  <a:pt x="13104" y="11496"/>
                  <a:pt x="13435" y="10800"/>
                  <a:pt x="14035" y="10800"/>
                </a:cubicBezTo>
                <a:cubicBezTo>
                  <a:pt x="15167" y="10800"/>
                  <a:pt x="16063" y="9434"/>
                  <a:pt x="16063" y="7849"/>
                </a:cubicBezTo>
                <a:cubicBezTo>
                  <a:pt x="16063" y="5534"/>
                  <a:pt x="14209" y="3794"/>
                  <a:pt x="11999" y="3794"/>
                </a:cubicBezTo>
                <a:cubicBezTo>
                  <a:pt x="9788" y="3794"/>
                  <a:pt x="8117" y="5534"/>
                  <a:pt x="8117" y="7849"/>
                </a:cubicBezTo>
                <a:lnTo>
                  <a:pt x="9971" y="7849"/>
                </a:lnTo>
                <a:cubicBezTo>
                  <a:pt x="9971" y="6709"/>
                  <a:pt x="10893" y="5821"/>
                  <a:pt x="11999" y="5821"/>
                </a:cubicBezTo>
                <a:cubicBezTo>
                  <a:pt x="13104" y="5821"/>
                  <a:pt x="14035" y="6709"/>
                  <a:pt x="14035" y="7849"/>
                </a:cubicBezTo>
                <a:cubicBezTo>
                  <a:pt x="14035" y="8589"/>
                  <a:pt x="13565" y="9320"/>
                  <a:pt x="13104" y="9320"/>
                </a:cubicBezTo>
                <a:cubicBezTo>
                  <a:pt x="11999" y="9320"/>
                  <a:pt x="10893" y="10800"/>
                  <a:pt x="10893" y="12323"/>
                </a:cubicBezTo>
                <a:lnTo>
                  <a:pt x="1089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sotopes for 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does the prefix iso- mea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sa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4"/>
          <p:cNvSpPr/>
          <p:nvPr/>
        </p:nvSpPr>
        <p:spPr>
          <a:xfrm>
            <a:off x="6477120" y="7772400"/>
            <a:ext cx="2057400" cy="1447920"/>
          </a:xfrm>
          <a:custGeom>
            <a:avLst/>
            <a:gdLst>
              <a:gd name="textAreaLeft" fmla="*/ 93600 w 2057400"/>
              <a:gd name="textAreaRight" fmla="*/ 1963800 w 20574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0690" h="21600">
                <a:moveTo>
                  <a:pt x="0" y="0"/>
                </a:moveTo>
                <a:lnTo>
                  <a:pt x="30690" y="0"/>
                </a:lnTo>
                <a:lnTo>
                  <a:pt x="30690" y="21600"/>
                </a:lnTo>
                <a:lnTo>
                  <a:pt x="0" y="21600"/>
                </a:lnTo>
                <a:close/>
              </a:path>
              <a:path fill="lightenLess" w="30690" h="21600">
                <a:moveTo>
                  <a:pt x="0" y="0"/>
                </a:moveTo>
                <a:lnTo>
                  <a:pt x="30690" y="0"/>
                </a:lnTo>
                <a:lnTo>
                  <a:pt x="29290" y="1400"/>
                </a:lnTo>
                <a:lnTo>
                  <a:pt x="1400" y="1400"/>
                </a:lnTo>
                <a:close/>
              </a:path>
              <a:path fill="darken" w="30690" h="21600">
                <a:moveTo>
                  <a:pt x="30690" y="0"/>
                </a:moveTo>
                <a:lnTo>
                  <a:pt x="30690" y="21600"/>
                </a:lnTo>
                <a:lnTo>
                  <a:pt x="29290" y="20200"/>
                </a:lnTo>
                <a:lnTo>
                  <a:pt x="29290" y="1400"/>
                </a:lnTo>
                <a:close/>
              </a:path>
              <a:path fill="darkenLess" w="30690" h="21600">
                <a:moveTo>
                  <a:pt x="30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0" y="20200"/>
                </a:lnTo>
                <a:close/>
              </a:path>
              <a:path fill="lighten" w="30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0" h="21600">
                <a:moveTo>
                  <a:pt x="153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90" h="21600">
                <a:moveTo>
                  <a:pt x="16450" y="14281"/>
                </a:moveTo>
                <a:lnTo>
                  <a:pt x="16450" y="12323"/>
                </a:lnTo>
                <a:cubicBezTo>
                  <a:pt x="16450" y="11496"/>
                  <a:pt x="16781" y="10800"/>
                  <a:pt x="17382" y="10800"/>
                </a:cubicBezTo>
                <a:cubicBezTo>
                  <a:pt x="18513" y="10800"/>
                  <a:pt x="19410" y="9434"/>
                  <a:pt x="19410" y="7849"/>
                </a:cubicBezTo>
                <a:cubicBezTo>
                  <a:pt x="19410" y="5534"/>
                  <a:pt x="17556" y="3794"/>
                  <a:pt x="15345" y="3794"/>
                </a:cubicBezTo>
                <a:cubicBezTo>
                  <a:pt x="13134" y="3794"/>
                  <a:pt x="11463" y="5534"/>
                  <a:pt x="11463" y="7849"/>
                </a:cubicBezTo>
                <a:lnTo>
                  <a:pt x="13317" y="7849"/>
                </a:lnTo>
                <a:cubicBezTo>
                  <a:pt x="13317" y="6709"/>
                  <a:pt x="14240" y="5821"/>
                  <a:pt x="15345" y="5821"/>
                </a:cubicBezTo>
                <a:cubicBezTo>
                  <a:pt x="16450" y="5821"/>
                  <a:pt x="17382" y="6709"/>
                  <a:pt x="17382" y="7849"/>
                </a:cubicBezTo>
                <a:cubicBezTo>
                  <a:pt x="17382" y="8589"/>
                  <a:pt x="16912" y="9320"/>
                  <a:pt x="16450" y="9320"/>
                </a:cubicBezTo>
                <a:cubicBezTo>
                  <a:pt x="15345" y="9320"/>
                  <a:pt x="14240" y="10800"/>
                  <a:pt x="14240" y="12323"/>
                </a:cubicBezTo>
                <a:lnTo>
                  <a:pt x="1424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sotopes for 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at is a radioisotop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n isotope that has an unstable nucleus and undergoes radioactive decay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7010280" y="716292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12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99" h="21600">
                <a:moveTo>
                  <a:pt x="13705" y="14281"/>
                </a:moveTo>
                <a:lnTo>
                  <a:pt x="13705" y="12323"/>
                </a:lnTo>
                <a:cubicBezTo>
                  <a:pt x="13705" y="11496"/>
                  <a:pt x="14036" y="10800"/>
                  <a:pt x="14636" y="10800"/>
                </a:cubicBezTo>
                <a:cubicBezTo>
                  <a:pt x="15768" y="10800"/>
                  <a:pt x="16664" y="9434"/>
                  <a:pt x="16664" y="7849"/>
                </a:cubicBezTo>
                <a:cubicBezTo>
                  <a:pt x="16664" y="5534"/>
                  <a:pt x="14810" y="3794"/>
                  <a:pt x="12600" y="3794"/>
                </a:cubicBezTo>
                <a:cubicBezTo>
                  <a:pt x="10389" y="3794"/>
                  <a:pt x="8718" y="5534"/>
                  <a:pt x="8718" y="7849"/>
                </a:cubicBezTo>
                <a:lnTo>
                  <a:pt x="10572" y="7849"/>
                </a:lnTo>
                <a:cubicBezTo>
                  <a:pt x="10572" y="6709"/>
                  <a:pt x="11494" y="5821"/>
                  <a:pt x="12600" y="5821"/>
                </a:cubicBezTo>
                <a:cubicBezTo>
                  <a:pt x="13705" y="5821"/>
                  <a:pt x="14636" y="6709"/>
                  <a:pt x="14636" y="7849"/>
                </a:cubicBezTo>
                <a:cubicBezTo>
                  <a:pt x="14636" y="8589"/>
                  <a:pt x="14166" y="9320"/>
                  <a:pt x="13705" y="9320"/>
                </a:cubicBezTo>
                <a:cubicBezTo>
                  <a:pt x="12600" y="9320"/>
                  <a:pt x="11494" y="10800"/>
                  <a:pt x="11494" y="12323"/>
                </a:cubicBezTo>
                <a:lnTo>
                  <a:pt x="1149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Periodic Table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many rows are there in the periodic tabl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6705720" y="7391520"/>
            <a:ext cx="1447560" cy="144756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onding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4638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ubatomic particles are used to bond two elements ionicall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electr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5">
            <a:hlinkClick r:id="rId1" action="ppaction://hlinksldjump"/>
          </p:cNvPr>
          <p:cNvSpPr/>
          <p:nvPr/>
        </p:nvSpPr>
        <p:spPr>
          <a:xfrm>
            <a:off x="6934320" y="8077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Periodic Table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do chemicals within a group have in comm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Similar Properti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7543800" y="7543800"/>
            <a:ext cx="1600200" cy="1447920"/>
          </a:xfrm>
          <a:custGeom>
            <a:avLst/>
            <a:gdLst>
              <a:gd name="textAreaLeft" fmla="*/ 93600 w 1600200"/>
              <a:gd name="textAreaRight" fmla="*/ 1506600 w 16002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3871" h="21600">
                <a:moveTo>
                  <a:pt x="0" y="0"/>
                </a:moveTo>
                <a:lnTo>
                  <a:pt x="23871" y="0"/>
                </a:lnTo>
                <a:lnTo>
                  <a:pt x="23871" y="21600"/>
                </a:lnTo>
                <a:lnTo>
                  <a:pt x="0" y="21600"/>
                </a:lnTo>
                <a:close/>
              </a:path>
              <a:path fill="lightenLess" w="23871" h="21600">
                <a:moveTo>
                  <a:pt x="0" y="0"/>
                </a:moveTo>
                <a:lnTo>
                  <a:pt x="23871" y="0"/>
                </a:lnTo>
                <a:lnTo>
                  <a:pt x="22471" y="1400"/>
                </a:lnTo>
                <a:lnTo>
                  <a:pt x="1400" y="1400"/>
                </a:lnTo>
                <a:close/>
              </a:path>
              <a:path fill="darken" w="23871" h="21600">
                <a:moveTo>
                  <a:pt x="23871" y="0"/>
                </a:moveTo>
                <a:lnTo>
                  <a:pt x="23871" y="21600"/>
                </a:lnTo>
                <a:lnTo>
                  <a:pt x="22471" y="20200"/>
                </a:lnTo>
                <a:lnTo>
                  <a:pt x="22471" y="1400"/>
                </a:lnTo>
                <a:close/>
              </a:path>
              <a:path fill="darkenLess" w="23871" h="21600">
                <a:moveTo>
                  <a:pt x="23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1" y="20200"/>
                </a:lnTo>
                <a:close/>
              </a:path>
              <a:path fill="lighten" w="23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1" h="21600">
                <a:moveTo>
                  <a:pt x="119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71" h="21600">
                <a:moveTo>
                  <a:pt x="13041" y="14281"/>
                </a:moveTo>
                <a:lnTo>
                  <a:pt x="13041" y="12323"/>
                </a:lnTo>
                <a:cubicBezTo>
                  <a:pt x="13041" y="11496"/>
                  <a:pt x="13372" y="10800"/>
                  <a:pt x="13972" y="10800"/>
                </a:cubicBezTo>
                <a:cubicBezTo>
                  <a:pt x="15104" y="10800"/>
                  <a:pt x="16000" y="9434"/>
                  <a:pt x="16000" y="7849"/>
                </a:cubicBezTo>
                <a:cubicBezTo>
                  <a:pt x="16000" y="5534"/>
                  <a:pt x="14146" y="3794"/>
                  <a:pt x="11936" y="3794"/>
                </a:cubicBezTo>
                <a:cubicBezTo>
                  <a:pt x="9725" y="3794"/>
                  <a:pt x="8054" y="5534"/>
                  <a:pt x="8054" y="7849"/>
                </a:cubicBezTo>
                <a:lnTo>
                  <a:pt x="9908" y="7849"/>
                </a:lnTo>
                <a:cubicBezTo>
                  <a:pt x="9908" y="6709"/>
                  <a:pt x="10830" y="5821"/>
                  <a:pt x="11936" y="5821"/>
                </a:cubicBezTo>
                <a:cubicBezTo>
                  <a:pt x="13041" y="5821"/>
                  <a:pt x="13972" y="6709"/>
                  <a:pt x="13972" y="7849"/>
                </a:cubicBezTo>
                <a:cubicBezTo>
                  <a:pt x="13972" y="8589"/>
                  <a:pt x="13502" y="9320"/>
                  <a:pt x="13041" y="9320"/>
                </a:cubicBezTo>
                <a:cubicBezTo>
                  <a:pt x="11936" y="9320"/>
                  <a:pt x="10830" y="10800"/>
                  <a:pt x="10830" y="12323"/>
                </a:cubicBezTo>
                <a:lnTo>
                  <a:pt x="1083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Periodic Table for 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Name one property that changes from one element to the next in the periodic table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tomic ma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7238880" y="7696080"/>
            <a:ext cx="1524240" cy="1295640"/>
          </a:xfrm>
          <a:custGeom>
            <a:avLst/>
            <a:gdLst>
              <a:gd name="textAreaLeft" fmla="*/ 83880 w 1524240"/>
              <a:gd name="textAreaRight" fmla="*/ 1440360 w 15242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127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10" h="21600">
                <a:moveTo>
                  <a:pt x="13810" y="14281"/>
                </a:moveTo>
                <a:lnTo>
                  <a:pt x="13810" y="12323"/>
                </a:lnTo>
                <a:cubicBezTo>
                  <a:pt x="13810" y="11496"/>
                  <a:pt x="14141" y="10800"/>
                  <a:pt x="14742" y="10800"/>
                </a:cubicBezTo>
                <a:cubicBezTo>
                  <a:pt x="15873" y="10800"/>
                  <a:pt x="16770" y="9434"/>
                  <a:pt x="16770" y="7849"/>
                </a:cubicBezTo>
                <a:cubicBezTo>
                  <a:pt x="16770" y="5534"/>
                  <a:pt x="14916" y="3794"/>
                  <a:pt x="12705" y="3794"/>
                </a:cubicBezTo>
                <a:cubicBezTo>
                  <a:pt x="10494" y="3794"/>
                  <a:pt x="8823" y="5534"/>
                  <a:pt x="8823" y="7849"/>
                </a:cubicBezTo>
                <a:lnTo>
                  <a:pt x="10677" y="7849"/>
                </a:lnTo>
                <a:cubicBezTo>
                  <a:pt x="10677" y="6709"/>
                  <a:pt x="11600" y="5821"/>
                  <a:pt x="12705" y="5821"/>
                </a:cubicBezTo>
                <a:cubicBezTo>
                  <a:pt x="13810" y="5821"/>
                  <a:pt x="14742" y="6709"/>
                  <a:pt x="14742" y="7849"/>
                </a:cubicBezTo>
                <a:cubicBezTo>
                  <a:pt x="14742" y="8589"/>
                  <a:pt x="14272" y="9320"/>
                  <a:pt x="13810" y="9320"/>
                </a:cubicBezTo>
                <a:cubicBezTo>
                  <a:pt x="12705" y="9320"/>
                  <a:pt x="11600" y="10800"/>
                  <a:pt x="11600" y="12323"/>
                </a:cubicBezTo>
                <a:lnTo>
                  <a:pt x="1160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Periodic Table for 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 are groups organized in the periodic tab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In group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7162920" y="76960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9" h="21600">
                <a:moveTo>
                  <a:pt x="14065" y="14281"/>
                </a:moveTo>
                <a:lnTo>
                  <a:pt x="14065" y="12323"/>
                </a:lnTo>
                <a:cubicBezTo>
                  <a:pt x="14065" y="11496"/>
                  <a:pt x="14395" y="10800"/>
                  <a:pt x="14996" y="10800"/>
                </a:cubicBezTo>
                <a:cubicBezTo>
                  <a:pt x="16127" y="10800"/>
                  <a:pt x="17024" y="9434"/>
                  <a:pt x="17024" y="7849"/>
                </a:cubicBezTo>
                <a:cubicBezTo>
                  <a:pt x="17024" y="5534"/>
                  <a:pt x="15170" y="3794"/>
                  <a:pt x="12959" y="3794"/>
                </a:cubicBezTo>
                <a:cubicBezTo>
                  <a:pt x="10749" y="3794"/>
                  <a:pt x="9077" y="5534"/>
                  <a:pt x="9077" y="7849"/>
                </a:cubicBezTo>
                <a:lnTo>
                  <a:pt x="10931" y="7849"/>
                </a:lnTo>
                <a:cubicBezTo>
                  <a:pt x="10931" y="6709"/>
                  <a:pt x="11854" y="5821"/>
                  <a:pt x="12959" y="5821"/>
                </a:cubicBezTo>
                <a:cubicBezTo>
                  <a:pt x="14065" y="5821"/>
                  <a:pt x="14996" y="6709"/>
                  <a:pt x="14996" y="7849"/>
                </a:cubicBezTo>
                <a:cubicBezTo>
                  <a:pt x="14996" y="8589"/>
                  <a:pt x="14526" y="9320"/>
                  <a:pt x="14065" y="9320"/>
                </a:cubicBezTo>
                <a:cubicBezTo>
                  <a:pt x="12959" y="9320"/>
                  <a:pt x="11854" y="10800"/>
                  <a:pt x="11854" y="12323"/>
                </a:cubicBezTo>
                <a:lnTo>
                  <a:pt x="1185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Periodic Table for 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percentage of elements in the periodic table are metal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12/11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7238880" y="784872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4" h="21600">
                <a:moveTo>
                  <a:pt x="122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84" h="21600">
                <a:moveTo>
                  <a:pt x="13347" y="14281"/>
                </a:moveTo>
                <a:lnTo>
                  <a:pt x="13347" y="12323"/>
                </a:lnTo>
                <a:cubicBezTo>
                  <a:pt x="13347" y="11496"/>
                  <a:pt x="13678" y="10800"/>
                  <a:pt x="14278" y="10800"/>
                </a:cubicBezTo>
                <a:cubicBezTo>
                  <a:pt x="15410" y="10800"/>
                  <a:pt x="16306" y="9434"/>
                  <a:pt x="16306" y="7849"/>
                </a:cubicBezTo>
                <a:cubicBezTo>
                  <a:pt x="16306" y="5534"/>
                  <a:pt x="14453" y="3794"/>
                  <a:pt x="12242" y="3794"/>
                </a:cubicBezTo>
                <a:cubicBezTo>
                  <a:pt x="10031" y="3794"/>
                  <a:pt x="8360" y="5534"/>
                  <a:pt x="8360" y="7849"/>
                </a:cubicBezTo>
                <a:lnTo>
                  <a:pt x="10214" y="7849"/>
                </a:lnTo>
                <a:cubicBezTo>
                  <a:pt x="10214" y="6709"/>
                  <a:pt x="11136" y="5821"/>
                  <a:pt x="12242" y="5821"/>
                </a:cubicBezTo>
                <a:cubicBezTo>
                  <a:pt x="13347" y="5821"/>
                  <a:pt x="14278" y="6709"/>
                  <a:pt x="14278" y="7849"/>
                </a:cubicBezTo>
                <a:cubicBezTo>
                  <a:pt x="14278" y="8589"/>
                  <a:pt x="13808" y="9320"/>
                  <a:pt x="13347" y="9320"/>
                </a:cubicBezTo>
                <a:cubicBezTo>
                  <a:pt x="12242" y="9320"/>
                  <a:pt x="11136" y="10800"/>
                  <a:pt x="11136" y="12323"/>
                </a:cubicBezTo>
                <a:lnTo>
                  <a:pt x="1113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Changes in the number of these particles result in 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lectr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6934320" y="77724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1367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354" h="21600">
                <a:moveTo>
                  <a:pt x="14782" y="14281"/>
                </a:moveTo>
                <a:lnTo>
                  <a:pt x="14782" y="12323"/>
                </a:lnTo>
                <a:cubicBezTo>
                  <a:pt x="14782" y="11496"/>
                  <a:pt x="15113" y="10800"/>
                  <a:pt x="15713" y="10800"/>
                </a:cubicBezTo>
                <a:cubicBezTo>
                  <a:pt x="16845" y="10800"/>
                  <a:pt x="17741" y="9434"/>
                  <a:pt x="17741" y="7849"/>
                </a:cubicBezTo>
                <a:cubicBezTo>
                  <a:pt x="17741" y="5534"/>
                  <a:pt x="15888" y="3794"/>
                  <a:pt x="13677" y="3794"/>
                </a:cubicBezTo>
                <a:cubicBezTo>
                  <a:pt x="11466" y="3794"/>
                  <a:pt x="9795" y="5534"/>
                  <a:pt x="9795" y="7849"/>
                </a:cubicBezTo>
                <a:lnTo>
                  <a:pt x="11649" y="7849"/>
                </a:lnTo>
                <a:cubicBezTo>
                  <a:pt x="11649" y="6709"/>
                  <a:pt x="12571" y="5821"/>
                  <a:pt x="13677" y="5821"/>
                </a:cubicBezTo>
                <a:cubicBezTo>
                  <a:pt x="14782" y="5821"/>
                  <a:pt x="15713" y="6709"/>
                  <a:pt x="15713" y="7849"/>
                </a:cubicBezTo>
                <a:cubicBezTo>
                  <a:pt x="15713" y="8589"/>
                  <a:pt x="15243" y="9320"/>
                  <a:pt x="14782" y="9320"/>
                </a:cubicBezTo>
                <a:cubicBezTo>
                  <a:pt x="13677" y="9320"/>
                  <a:pt x="12571" y="10800"/>
                  <a:pt x="12571" y="12323"/>
                </a:cubicBezTo>
                <a:lnTo>
                  <a:pt x="1257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gives rise to the color of the beam in a CRT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ype of gas it contai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7086600" y="7620120"/>
            <a:ext cx="1295280" cy="12952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particles did Rutherford use in his experi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lpha particl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6705720" y="73152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82" h="21600">
                <a:moveTo>
                  <a:pt x="113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682" h="21600">
                <a:moveTo>
                  <a:pt x="12446" y="14281"/>
                </a:moveTo>
                <a:lnTo>
                  <a:pt x="12446" y="12323"/>
                </a:lnTo>
                <a:cubicBezTo>
                  <a:pt x="12446" y="11496"/>
                  <a:pt x="12777" y="10800"/>
                  <a:pt x="13377" y="10800"/>
                </a:cubicBezTo>
                <a:cubicBezTo>
                  <a:pt x="14509" y="10800"/>
                  <a:pt x="15405" y="9434"/>
                  <a:pt x="15405" y="7849"/>
                </a:cubicBezTo>
                <a:cubicBezTo>
                  <a:pt x="15405" y="5534"/>
                  <a:pt x="13552" y="3794"/>
                  <a:pt x="11341" y="3794"/>
                </a:cubicBezTo>
                <a:cubicBezTo>
                  <a:pt x="9130" y="3794"/>
                  <a:pt x="7459" y="5534"/>
                  <a:pt x="7459" y="7849"/>
                </a:cubicBezTo>
                <a:lnTo>
                  <a:pt x="9313" y="7849"/>
                </a:lnTo>
                <a:cubicBezTo>
                  <a:pt x="9313" y="6709"/>
                  <a:pt x="10235" y="5821"/>
                  <a:pt x="11341" y="5821"/>
                </a:cubicBezTo>
                <a:cubicBezTo>
                  <a:pt x="12446" y="5821"/>
                  <a:pt x="13377" y="6709"/>
                  <a:pt x="13377" y="7849"/>
                </a:cubicBezTo>
                <a:cubicBezTo>
                  <a:pt x="13377" y="8589"/>
                  <a:pt x="12907" y="9320"/>
                  <a:pt x="12446" y="9320"/>
                </a:cubicBezTo>
                <a:cubicBezTo>
                  <a:pt x="11341" y="9320"/>
                  <a:pt x="10235" y="10800"/>
                  <a:pt x="10235" y="12323"/>
                </a:cubicBezTo>
                <a:lnTo>
                  <a:pt x="1023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was the name given to the rays studied by Goldstei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anal Ray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7238880" y="7696080"/>
            <a:ext cx="1524240" cy="1447920"/>
          </a:xfrm>
          <a:custGeom>
            <a:avLst/>
            <a:gdLst>
              <a:gd name="textAreaLeft" fmla="*/ 93600 w 1524240"/>
              <a:gd name="textAreaRight" fmla="*/ 1430640 w 15242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2738" h="21600">
                <a:moveTo>
                  <a:pt x="0" y="0"/>
                </a:moveTo>
                <a:lnTo>
                  <a:pt x="22738" y="0"/>
                </a:lnTo>
                <a:lnTo>
                  <a:pt x="22738" y="21600"/>
                </a:lnTo>
                <a:lnTo>
                  <a:pt x="0" y="21600"/>
                </a:lnTo>
                <a:close/>
              </a:path>
              <a:path fill="lightenLess" w="22738" h="21600">
                <a:moveTo>
                  <a:pt x="0" y="0"/>
                </a:moveTo>
                <a:lnTo>
                  <a:pt x="22738" y="0"/>
                </a:lnTo>
                <a:lnTo>
                  <a:pt x="21338" y="1400"/>
                </a:lnTo>
                <a:lnTo>
                  <a:pt x="1400" y="1400"/>
                </a:lnTo>
                <a:close/>
              </a:path>
              <a:path fill="darken" w="22738" h="21600">
                <a:moveTo>
                  <a:pt x="22738" y="0"/>
                </a:moveTo>
                <a:lnTo>
                  <a:pt x="22738" y="21600"/>
                </a:lnTo>
                <a:lnTo>
                  <a:pt x="21338" y="20200"/>
                </a:lnTo>
                <a:lnTo>
                  <a:pt x="21338" y="1400"/>
                </a:lnTo>
                <a:close/>
              </a:path>
              <a:path fill="darkenLess" w="22738" h="21600">
                <a:moveTo>
                  <a:pt x="22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8" y="20200"/>
                </a:lnTo>
                <a:close/>
              </a:path>
              <a:path fill="lighten" w="22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8" h="21600">
                <a:moveTo>
                  <a:pt x="113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8" h="21600">
                <a:moveTo>
                  <a:pt x="12474" y="14281"/>
                </a:moveTo>
                <a:lnTo>
                  <a:pt x="12474" y="12323"/>
                </a:lnTo>
                <a:cubicBezTo>
                  <a:pt x="12474" y="11496"/>
                  <a:pt x="12805" y="10800"/>
                  <a:pt x="13406" y="10800"/>
                </a:cubicBezTo>
                <a:cubicBezTo>
                  <a:pt x="14537" y="10800"/>
                  <a:pt x="15434" y="9434"/>
                  <a:pt x="15434" y="7849"/>
                </a:cubicBezTo>
                <a:cubicBezTo>
                  <a:pt x="15434" y="5534"/>
                  <a:pt x="13580" y="3794"/>
                  <a:pt x="11369" y="3794"/>
                </a:cubicBezTo>
                <a:cubicBezTo>
                  <a:pt x="9158" y="3794"/>
                  <a:pt x="7487" y="5534"/>
                  <a:pt x="7487" y="7849"/>
                </a:cubicBezTo>
                <a:lnTo>
                  <a:pt x="9341" y="7849"/>
                </a:lnTo>
                <a:cubicBezTo>
                  <a:pt x="9341" y="6709"/>
                  <a:pt x="10264" y="5821"/>
                  <a:pt x="11369" y="5821"/>
                </a:cubicBezTo>
                <a:cubicBezTo>
                  <a:pt x="12474" y="5821"/>
                  <a:pt x="13406" y="6709"/>
                  <a:pt x="13406" y="7849"/>
                </a:cubicBezTo>
                <a:cubicBezTo>
                  <a:pt x="13406" y="8589"/>
                  <a:pt x="12936" y="9320"/>
                  <a:pt x="12474" y="9320"/>
                </a:cubicBezTo>
                <a:cubicBezTo>
                  <a:pt x="11369" y="9320"/>
                  <a:pt x="10264" y="10800"/>
                  <a:pt x="10264" y="12323"/>
                </a:cubicBezTo>
                <a:lnTo>
                  <a:pt x="1026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group of individuals thought it was possible to turn lead into gol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alchemis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6781680" y="7848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Daily Doubl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How Much will you Wager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ailydoubl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onding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elements are involved in ionic bonding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metals and non-met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>
            <a:hlinkClick r:id="rId1" action="ppaction://hlinksldjump"/>
          </p:cNvPr>
          <p:cNvSpPr/>
          <p:nvPr/>
        </p:nvSpPr>
        <p:spPr>
          <a:xfrm>
            <a:off x="6477120" y="8077320"/>
            <a:ext cx="2819160" cy="1981080"/>
          </a:xfrm>
          <a:custGeom>
            <a:avLst/>
            <a:gdLst>
              <a:gd name="textAreaLeft" fmla="*/ 128160 w 2819160"/>
              <a:gd name="textAreaRight" fmla="*/ 2691000 w 281916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0736" h="21600">
                <a:moveTo>
                  <a:pt x="0" y="0"/>
                </a:moveTo>
                <a:lnTo>
                  <a:pt x="30736" y="0"/>
                </a:lnTo>
                <a:lnTo>
                  <a:pt x="30736" y="21600"/>
                </a:lnTo>
                <a:lnTo>
                  <a:pt x="0" y="21600"/>
                </a:lnTo>
                <a:close/>
              </a:path>
              <a:path fill="lightenLess" w="30736" h="21600">
                <a:moveTo>
                  <a:pt x="0" y="0"/>
                </a:moveTo>
                <a:lnTo>
                  <a:pt x="30736" y="0"/>
                </a:lnTo>
                <a:lnTo>
                  <a:pt x="29336" y="1400"/>
                </a:lnTo>
                <a:lnTo>
                  <a:pt x="1400" y="1400"/>
                </a:lnTo>
                <a:close/>
              </a:path>
              <a:path fill="darken" w="30736" h="21600">
                <a:moveTo>
                  <a:pt x="30736" y="0"/>
                </a:moveTo>
                <a:lnTo>
                  <a:pt x="30736" y="21600"/>
                </a:lnTo>
                <a:lnTo>
                  <a:pt x="29336" y="20200"/>
                </a:lnTo>
                <a:lnTo>
                  <a:pt x="29336" y="1400"/>
                </a:lnTo>
                <a:close/>
              </a:path>
              <a:path fill="darkenLess" w="30736" h="21600">
                <a:moveTo>
                  <a:pt x="30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6" y="20200"/>
                </a:lnTo>
                <a:close/>
              </a:path>
              <a:path fill="lighten" w="30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6" h="21600">
                <a:moveTo>
                  <a:pt x="153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736" h="21600">
                <a:moveTo>
                  <a:pt x="16473" y="14281"/>
                </a:moveTo>
                <a:lnTo>
                  <a:pt x="16473" y="12323"/>
                </a:lnTo>
                <a:cubicBezTo>
                  <a:pt x="16473" y="11496"/>
                  <a:pt x="16804" y="10800"/>
                  <a:pt x="17405" y="10800"/>
                </a:cubicBezTo>
                <a:cubicBezTo>
                  <a:pt x="18536" y="10800"/>
                  <a:pt x="19433" y="9434"/>
                  <a:pt x="19433" y="7849"/>
                </a:cubicBezTo>
                <a:cubicBezTo>
                  <a:pt x="19433" y="5534"/>
                  <a:pt x="17579" y="3794"/>
                  <a:pt x="15368" y="3794"/>
                </a:cubicBezTo>
                <a:cubicBezTo>
                  <a:pt x="13157" y="3794"/>
                  <a:pt x="11486" y="5534"/>
                  <a:pt x="11486" y="7849"/>
                </a:cubicBezTo>
                <a:lnTo>
                  <a:pt x="13340" y="7849"/>
                </a:lnTo>
                <a:cubicBezTo>
                  <a:pt x="13340" y="6709"/>
                  <a:pt x="14263" y="5821"/>
                  <a:pt x="15368" y="5821"/>
                </a:cubicBezTo>
                <a:cubicBezTo>
                  <a:pt x="16473" y="5821"/>
                  <a:pt x="17405" y="6709"/>
                  <a:pt x="17405" y="7849"/>
                </a:cubicBezTo>
                <a:cubicBezTo>
                  <a:pt x="17405" y="8589"/>
                  <a:pt x="16935" y="9320"/>
                  <a:pt x="16473" y="9320"/>
                </a:cubicBezTo>
                <a:cubicBezTo>
                  <a:pt x="15368" y="9320"/>
                  <a:pt x="14263" y="10800"/>
                  <a:pt x="14263" y="12323"/>
                </a:cubicBezTo>
                <a:lnTo>
                  <a:pt x="1426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Daily Doubl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How Much will you Wager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ailydouble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Make your Wa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are Jimmy Neutrons two best friend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arl and She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thinktheme.wav"/>
      </p:stSnd>
    </p:sndAc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6058080" y="3921120"/>
            <a:ext cx="155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9336240" y="3921120"/>
            <a:ext cx="89866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4" descr="Jimmy Neutron - Der mutige Erfinder"/>
          <p:cNvPicPr/>
          <p:nvPr/>
        </p:nvPicPr>
        <p:blipFill>
          <a:blip r:embed="rId1"/>
          <a:stretch/>
        </p:blipFill>
        <p:spPr>
          <a:xfrm>
            <a:off x="2590920" y="1677960"/>
            <a:ext cx="10972800" cy="709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Game Ove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onding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13214160" cy="6035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ich electrons participate in bonding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val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6858000" y="8001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onding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132145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Electrons are shared in covalent bonds.  How are the electrons used in ionic bond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Electrons are transferred from metals to non-met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2T16:39:25Z</dcterms:created>
  <dc:creator>Compaq</dc:creator>
  <dc:description/>
  <dc:language>en-US</dc:language>
  <cp:lastModifiedBy>Dawn</cp:lastModifiedBy>
  <dcterms:modified xsi:type="dcterms:W3CDTF">2012-02-15T03:01:02Z</dcterms:modified>
  <cp:revision>95</cp:revision>
  <dc:subject/>
  <dc:title>Jeopardy</dc:title>
</cp:coreProperties>
</file>